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2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631800" y="836640"/>
            <a:ext cx="1074600" cy="1574280"/>
            <a:chOff x="631800" y="836640"/>
            <a:chExt cx="1074600" cy="1574280"/>
          </a:xfrm>
        </p:grpSpPr>
        <p:sp>
          <p:nvSpPr>
            <p:cNvPr id="55" name=""/>
            <p:cNvSpPr/>
            <p:nvPr/>
          </p:nvSpPr>
          <p:spPr>
            <a:xfrm>
              <a:off x="631800" y="1795320"/>
              <a:ext cx="1074600" cy="6156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631800" y="836640"/>
              <a:ext cx="92232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/>
                      </a:gs>
                      <a:gs pos="100000">
                        <a:srgbClr val="e6dcac"/>
                      </a:gs>
                    </a:gsLst>
                    <a:lin ang="13500000"/>
                  </a:gradFill>
                  <a:latin typeface="Arial Black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31800" y="2781360"/>
            <a:ext cx="1074600" cy="1574280"/>
            <a:chOff x="631800" y="2781360"/>
            <a:chExt cx="1074600" cy="1574280"/>
          </a:xfrm>
        </p:grpSpPr>
        <p:sp>
          <p:nvSpPr>
            <p:cNvPr id="58" name=""/>
            <p:cNvSpPr/>
            <p:nvPr/>
          </p:nvSpPr>
          <p:spPr>
            <a:xfrm>
              <a:off x="631800" y="3740040"/>
              <a:ext cx="1074600" cy="6156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747360" y="2781360"/>
              <a:ext cx="76824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/>
                      </a:gs>
                      <a:gs pos="100000">
                        <a:srgbClr val="e6dcac"/>
                      </a:gs>
                    </a:gsLst>
                    <a:lin ang="13500000"/>
                  </a:gradFill>
                  <a:latin typeface="Century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Century"/>
                <a:ea typeface="Century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31800" y="4724280"/>
            <a:ext cx="1074600" cy="1575000"/>
            <a:chOff x="631800" y="4724280"/>
            <a:chExt cx="1074600" cy="1575000"/>
          </a:xfrm>
        </p:grpSpPr>
        <p:sp>
          <p:nvSpPr>
            <p:cNvPr id="61" name=""/>
            <p:cNvSpPr/>
            <p:nvPr/>
          </p:nvSpPr>
          <p:spPr>
            <a:xfrm>
              <a:off x="631800" y="5683320"/>
              <a:ext cx="1074600" cy="615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747720" y="4724280"/>
              <a:ext cx="768240" cy="11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/>
                      </a:gs>
                      <a:gs pos="100000">
                        <a:srgbClr val="e6dcac"/>
                      </a:gs>
                    </a:gsLst>
                    <a:lin ang="13500000"/>
                  </a:gradFill>
                  <a:latin typeface="Verdana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Verdana"/>
                <a:ea typeface="Verdana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505240" y="836640"/>
            <a:ext cx="1074600" cy="1574640"/>
            <a:chOff x="2505240" y="836640"/>
            <a:chExt cx="1074600" cy="1574640"/>
          </a:xfrm>
        </p:grpSpPr>
        <p:sp>
          <p:nvSpPr>
            <p:cNvPr id="64" name=""/>
            <p:cNvSpPr/>
            <p:nvPr/>
          </p:nvSpPr>
          <p:spPr>
            <a:xfrm>
              <a:off x="2505240" y="1795320"/>
              <a:ext cx="1074600" cy="615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2505240" y="836640"/>
              <a:ext cx="92232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/>
                      </a:gs>
                      <a:gs pos="100000">
                        <a:srgbClr val="fae3b7"/>
                      </a:gs>
                    </a:gsLst>
                    <a:lin ang="8100000"/>
                  </a:gradFill>
                  <a:latin typeface="Arial Black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505240" y="2781360"/>
            <a:ext cx="1074600" cy="1574640"/>
            <a:chOff x="2505240" y="2781360"/>
            <a:chExt cx="1074600" cy="1574640"/>
          </a:xfrm>
        </p:grpSpPr>
        <p:sp>
          <p:nvSpPr>
            <p:cNvPr id="67" name=""/>
            <p:cNvSpPr/>
            <p:nvPr/>
          </p:nvSpPr>
          <p:spPr>
            <a:xfrm>
              <a:off x="2505240" y="3740040"/>
              <a:ext cx="1074600" cy="615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2620800" y="2781360"/>
              <a:ext cx="76824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/>
                      </a:gs>
                      <a:gs pos="100000">
                        <a:srgbClr val="fae3b7"/>
                      </a:gs>
                    </a:gsLst>
                    <a:lin ang="8100000"/>
                  </a:gradFill>
                  <a:latin typeface="Century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Century"/>
                <a:ea typeface="Century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505240" y="4724280"/>
            <a:ext cx="1074600" cy="1575000"/>
            <a:chOff x="2505240" y="4724280"/>
            <a:chExt cx="1074600" cy="1575000"/>
          </a:xfrm>
        </p:grpSpPr>
        <p:sp>
          <p:nvSpPr>
            <p:cNvPr id="70" name=""/>
            <p:cNvSpPr/>
            <p:nvPr/>
          </p:nvSpPr>
          <p:spPr>
            <a:xfrm>
              <a:off x="2505240" y="5683320"/>
              <a:ext cx="1074600" cy="615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2621160" y="4724280"/>
              <a:ext cx="768240" cy="11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/>
                      </a:gs>
                      <a:gs pos="100000">
                        <a:srgbClr val="fae3b7"/>
                      </a:gs>
                    </a:gsLst>
                    <a:lin ang="8100000"/>
                  </a:gradFill>
                  <a:latin typeface="Verdana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Verdana"/>
                <a:ea typeface="Verdana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448160" y="838080"/>
            <a:ext cx="1074600" cy="1574640"/>
            <a:chOff x="4448160" y="838080"/>
            <a:chExt cx="1074600" cy="1574640"/>
          </a:xfrm>
        </p:grpSpPr>
        <p:sp>
          <p:nvSpPr>
            <p:cNvPr id="73" name=""/>
            <p:cNvSpPr/>
            <p:nvPr/>
          </p:nvSpPr>
          <p:spPr>
            <a:xfrm>
              <a:off x="4448160" y="1796760"/>
              <a:ext cx="1074600" cy="615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4448160" y="838080"/>
              <a:ext cx="92232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ffa800"/>
                      </a:gs>
                    </a:gsLst>
                    <a:lin ang="8100000"/>
                  </a:gradFill>
                  <a:latin typeface="Arial Black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81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448160" y="2782800"/>
            <a:ext cx="1074600" cy="1574640"/>
            <a:chOff x="4448160" y="2782800"/>
            <a:chExt cx="1074600" cy="1574640"/>
          </a:xfrm>
        </p:grpSpPr>
        <p:sp>
          <p:nvSpPr>
            <p:cNvPr id="76" name=""/>
            <p:cNvSpPr/>
            <p:nvPr/>
          </p:nvSpPr>
          <p:spPr>
            <a:xfrm>
              <a:off x="4448160" y="3741480"/>
              <a:ext cx="1074600" cy="615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4563720" y="2782800"/>
              <a:ext cx="76860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ffa800"/>
                      </a:gs>
                    </a:gsLst>
                    <a:lin ang="8100000"/>
                  </a:gradFill>
                  <a:latin typeface="Century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8100000"/>
                </a:gradFill>
                <a:latin typeface="Century"/>
                <a:ea typeface="Century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448160" y="4726080"/>
            <a:ext cx="1074600" cy="1574640"/>
            <a:chOff x="4448160" y="4726080"/>
            <a:chExt cx="1074600" cy="1574640"/>
          </a:xfrm>
        </p:grpSpPr>
        <p:sp>
          <p:nvSpPr>
            <p:cNvPr id="79" name=""/>
            <p:cNvSpPr/>
            <p:nvPr/>
          </p:nvSpPr>
          <p:spPr>
            <a:xfrm>
              <a:off x="4448160" y="5684760"/>
              <a:ext cx="1074600" cy="615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564080" y="4726080"/>
              <a:ext cx="76824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ffa800"/>
                      </a:gs>
                    </a:gsLst>
                    <a:lin ang="8100000"/>
                  </a:gradFill>
                  <a:latin typeface="Verdana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8100000"/>
                </a:gradFill>
                <a:latin typeface="Verdana"/>
                <a:ea typeface="Verdana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321600" y="846000"/>
            <a:ext cx="1074600" cy="1574640"/>
            <a:chOff x="6321600" y="846000"/>
            <a:chExt cx="1074600" cy="1574640"/>
          </a:xfrm>
        </p:grpSpPr>
        <p:sp>
          <p:nvSpPr>
            <p:cNvPr id="82" name=""/>
            <p:cNvSpPr/>
            <p:nvPr/>
          </p:nvSpPr>
          <p:spPr>
            <a:xfrm>
              <a:off x="6321600" y="1804680"/>
              <a:ext cx="1074600" cy="615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6321600" y="846000"/>
              <a:ext cx="92196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/>
                      </a:gs>
                      <a:gs pos="100000">
                        <a:srgbClr val="eaeaea"/>
                      </a:gs>
                    </a:gsLst>
                    <a:lin ang="8100000"/>
                  </a:gradFill>
                  <a:latin typeface="Arial Black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321600" y="2790720"/>
            <a:ext cx="1074600" cy="1574640"/>
            <a:chOff x="6321600" y="2790720"/>
            <a:chExt cx="1074600" cy="1574640"/>
          </a:xfrm>
        </p:grpSpPr>
        <p:sp>
          <p:nvSpPr>
            <p:cNvPr id="85" name=""/>
            <p:cNvSpPr/>
            <p:nvPr/>
          </p:nvSpPr>
          <p:spPr>
            <a:xfrm>
              <a:off x="6321600" y="3749400"/>
              <a:ext cx="1074600" cy="615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6437520" y="2790720"/>
              <a:ext cx="76824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/>
                      </a:gs>
                      <a:gs pos="100000">
                        <a:srgbClr val="eaeaea"/>
                      </a:gs>
                    </a:gsLst>
                    <a:lin ang="8100000"/>
                  </a:gradFill>
                  <a:latin typeface="Century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Century"/>
                <a:ea typeface="Century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321600" y="4734000"/>
            <a:ext cx="1074600" cy="1574640"/>
            <a:chOff x="6321600" y="4734000"/>
            <a:chExt cx="1074600" cy="1574640"/>
          </a:xfrm>
        </p:grpSpPr>
        <p:sp>
          <p:nvSpPr>
            <p:cNvPr id="88" name=""/>
            <p:cNvSpPr/>
            <p:nvPr/>
          </p:nvSpPr>
          <p:spPr>
            <a:xfrm>
              <a:off x="6321600" y="5692680"/>
              <a:ext cx="1074600" cy="615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6437160" y="4734000"/>
              <a:ext cx="76788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/>
                      </a:gs>
                      <a:gs pos="100000">
                        <a:srgbClr val="eaeaea"/>
                      </a:gs>
                    </a:gsLst>
                    <a:lin ang="8100000"/>
                  </a:gradFill>
                  <a:latin typeface="Verdana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Verdana"/>
                <a:ea typeface="Verdana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8121600" y="835200"/>
            <a:ext cx="1074600" cy="1574280"/>
            <a:chOff x="8121600" y="835200"/>
            <a:chExt cx="1074600" cy="1574280"/>
          </a:xfrm>
        </p:grpSpPr>
        <p:sp>
          <p:nvSpPr>
            <p:cNvPr id="91" name=""/>
            <p:cNvSpPr/>
            <p:nvPr/>
          </p:nvSpPr>
          <p:spPr>
            <a:xfrm>
              <a:off x="8121600" y="1793880"/>
              <a:ext cx="1074600" cy="6156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8121600" y="835200"/>
              <a:ext cx="92232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/>
                      </a:gs>
                      <a:gs pos="100000">
                        <a:srgbClr val="663012"/>
                      </a:gs>
                    </a:gsLst>
                    <a:lin ang="8100000"/>
                  </a:gradFill>
                  <a:latin typeface="Arial Black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81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121600" y="2779560"/>
            <a:ext cx="1074960" cy="1574640"/>
            <a:chOff x="8121600" y="2779560"/>
            <a:chExt cx="1074960" cy="1574640"/>
          </a:xfrm>
        </p:grpSpPr>
        <p:sp>
          <p:nvSpPr>
            <p:cNvPr id="94" name=""/>
            <p:cNvSpPr/>
            <p:nvPr/>
          </p:nvSpPr>
          <p:spPr>
            <a:xfrm>
              <a:off x="8121600" y="3738240"/>
              <a:ext cx="1074960" cy="615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8237520" y="2779560"/>
              <a:ext cx="76824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/>
                      </a:gs>
                      <a:gs pos="100000">
                        <a:srgbClr val="663012"/>
                      </a:gs>
                    </a:gsLst>
                    <a:lin ang="8100000"/>
                  </a:gradFill>
                  <a:latin typeface="Century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8100000"/>
                </a:gradFill>
                <a:latin typeface="Century"/>
                <a:ea typeface="Century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8121600" y="4722840"/>
            <a:ext cx="1074600" cy="1574640"/>
            <a:chOff x="8121600" y="4722840"/>
            <a:chExt cx="1074600" cy="1574640"/>
          </a:xfrm>
        </p:grpSpPr>
        <p:sp>
          <p:nvSpPr>
            <p:cNvPr id="97" name=""/>
            <p:cNvSpPr/>
            <p:nvPr/>
          </p:nvSpPr>
          <p:spPr>
            <a:xfrm>
              <a:off x="8121600" y="5681520"/>
              <a:ext cx="1074600" cy="615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8237520" y="4722840"/>
              <a:ext cx="76824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/>
                      </a:gs>
                      <a:gs pos="100000">
                        <a:srgbClr val="663012"/>
                      </a:gs>
                    </a:gsLst>
                    <a:lin ang="8100000"/>
                  </a:gradFill>
                  <a:latin typeface="Verdana"/>
                </a:rPr>
                <a:t>?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8100000"/>
                </a:gradFill>
                <a:latin typeface="Verdana"/>
                <a:ea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1800000">
            <a:off x="631440" y="786960"/>
            <a:ext cx="11905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1800000">
            <a:off x="637920" y="2782800"/>
            <a:ext cx="100476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33"/>
                </a:solidFill>
                <a:latin typeface="Century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333333"/>
              </a:solidFill>
              <a:latin typeface="Century"/>
              <a:ea typeface="Century"/>
            </a:endParaRPr>
          </a:p>
        </p:txBody>
      </p:sp>
      <p:sp>
        <p:nvSpPr>
          <p:cNvPr id="101" name=""/>
          <p:cNvSpPr txBox="1"/>
          <p:nvPr/>
        </p:nvSpPr>
        <p:spPr>
          <a:xfrm rot="1800000">
            <a:off x="631440" y="4722840"/>
            <a:ext cx="100476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33"/>
                </a:solidFill>
                <a:latin typeface="Verdana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333333"/>
              </a:solidFill>
              <a:latin typeface="Verdana"/>
              <a:ea typeface="Verdana"/>
            </a:endParaRPr>
          </a:p>
        </p:txBody>
      </p:sp>
      <p:sp>
        <p:nvSpPr>
          <p:cNvPr id="102" name=""/>
          <p:cNvSpPr txBox="1"/>
          <p:nvPr/>
        </p:nvSpPr>
        <p:spPr>
          <a:xfrm rot="1800000">
            <a:off x="2504880" y="740880"/>
            <a:ext cx="11905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6300000"/>
                </a:gradFill>
                <a:latin typeface="Arial Black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6300000"/>
              </a:gra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 rot="1800000">
            <a:off x="2504880" y="2736720"/>
            <a:ext cx="1004760" cy="15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6300000"/>
                </a:gradFill>
                <a:latin typeface="Century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6300000"/>
              </a:gradFill>
              <a:latin typeface="Century"/>
              <a:ea typeface="Century"/>
            </a:endParaRPr>
          </a:p>
        </p:txBody>
      </p:sp>
      <p:sp>
        <p:nvSpPr>
          <p:cNvPr id="104" name=""/>
          <p:cNvSpPr txBox="1"/>
          <p:nvPr/>
        </p:nvSpPr>
        <p:spPr>
          <a:xfrm rot="1800000">
            <a:off x="2576160" y="4676760"/>
            <a:ext cx="100476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6300000"/>
                </a:gradFill>
                <a:latin typeface="Verdana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6300000"/>
              </a:gradFill>
              <a:latin typeface="Verdana"/>
              <a:ea typeface="Verdana"/>
            </a:endParaRPr>
          </a:p>
        </p:txBody>
      </p:sp>
      <p:sp>
        <p:nvSpPr>
          <p:cNvPr id="105" name=""/>
          <p:cNvSpPr txBox="1"/>
          <p:nvPr/>
        </p:nvSpPr>
        <p:spPr>
          <a:xfrm rot="1800000">
            <a:off x="4338360" y="788760"/>
            <a:ext cx="11905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6300000"/>
                </a:gradFill>
                <a:latin typeface="Arial Black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6300000"/>
              </a:gra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 rot="1800000">
            <a:off x="4379400" y="2784600"/>
            <a:ext cx="100512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6300000"/>
                </a:gradFill>
                <a:latin typeface="Century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6300000"/>
              </a:gradFill>
              <a:latin typeface="Century"/>
              <a:ea typeface="Century"/>
            </a:endParaRPr>
          </a:p>
        </p:txBody>
      </p:sp>
      <p:sp>
        <p:nvSpPr>
          <p:cNvPr id="107" name=""/>
          <p:cNvSpPr txBox="1"/>
          <p:nvPr/>
        </p:nvSpPr>
        <p:spPr>
          <a:xfrm rot="1800000">
            <a:off x="4447800" y="4724280"/>
            <a:ext cx="1004760" cy="15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6300000"/>
                </a:gradFill>
                <a:latin typeface="Verdana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6300000"/>
              </a:gradFill>
              <a:latin typeface="Verdana"/>
              <a:ea typeface="Verdana"/>
            </a:endParaRPr>
          </a:p>
        </p:txBody>
      </p:sp>
      <p:sp>
        <p:nvSpPr>
          <p:cNvPr id="108" name=""/>
          <p:cNvSpPr txBox="1"/>
          <p:nvPr/>
        </p:nvSpPr>
        <p:spPr>
          <a:xfrm rot="1800000">
            <a:off x="6210000" y="742680"/>
            <a:ext cx="11905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2f75"/>
                    </a:gs>
                  </a:gsLst>
                  <a:lin ang="6300000"/>
                </a:gradFill>
                <a:latin typeface="Arial Black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66ff"/>
                  </a:gs>
                  <a:gs pos="100000">
                    <a:srgbClr val="002f75"/>
                  </a:gs>
                </a:gsLst>
                <a:lin ang="6300000"/>
              </a:gra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 rot="1800000">
            <a:off x="6248160" y="2738520"/>
            <a:ext cx="100476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2f75"/>
                    </a:gs>
                  </a:gsLst>
                  <a:lin ang="6300000"/>
                </a:gradFill>
                <a:latin typeface="Century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66ff"/>
                  </a:gs>
                  <a:gs pos="100000">
                    <a:srgbClr val="002f75"/>
                  </a:gs>
                </a:gsLst>
                <a:lin ang="6300000"/>
              </a:gradFill>
              <a:latin typeface="Century"/>
              <a:ea typeface="Century"/>
            </a:endParaRPr>
          </a:p>
        </p:txBody>
      </p:sp>
      <p:sp>
        <p:nvSpPr>
          <p:cNvPr id="110" name=""/>
          <p:cNvSpPr txBox="1"/>
          <p:nvPr/>
        </p:nvSpPr>
        <p:spPr>
          <a:xfrm rot="1800000">
            <a:off x="6248160" y="4678200"/>
            <a:ext cx="1004760" cy="15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2f75"/>
                    </a:gs>
                  </a:gsLst>
                  <a:lin ang="6300000"/>
                </a:gradFill>
                <a:latin typeface="Verdana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66ff"/>
                  </a:gs>
                  <a:gs pos="100000">
                    <a:srgbClr val="002f75"/>
                  </a:gs>
                </a:gsLst>
                <a:lin ang="6300000"/>
              </a:gradFill>
              <a:latin typeface="Verdana"/>
              <a:ea typeface="Verdana"/>
            </a:endParaRPr>
          </a:p>
        </p:txBody>
      </p:sp>
      <p:sp>
        <p:nvSpPr>
          <p:cNvPr id="111" name=""/>
          <p:cNvSpPr txBox="1"/>
          <p:nvPr/>
        </p:nvSpPr>
        <p:spPr>
          <a:xfrm rot="1800000">
            <a:off x="8083440" y="785880"/>
            <a:ext cx="11908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6300000"/>
                </a:gradFill>
                <a:latin typeface="Arial Black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6300000"/>
              </a:gra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 rot="1800000">
            <a:off x="8121240" y="2781360"/>
            <a:ext cx="100476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6300000"/>
                </a:gradFill>
                <a:latin typeface="Century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6300000"/>
              </a:gradFill>
              <a:latin typeface="Century"/>
              <a:ea typeface="Century"/>
            </a:endParaRPr>
          </a:p>
        </p:txBody>
      </p:sp>
      <p:sp>
        <p:nvSpPr>
          <p:cNvPr id="113" name=""/>
          <p:cNvSpPr txBox="1"/>
          <p:nvPr/>
        </p:nvSpPr>
        <p:spPr>
          <a:xfrm rot="1800000">
            <a:off x="8121600" y="4723920"/>
            <a:ext cx="1020960" cy="15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6300000"/>
                </a:gradFill>
                <a:latin typeface="Verdana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63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614520" y="2708280"/>
            <a:ext cx="1066680" cy="1630080"/>
            <a:chOff x="614520" y="2708280"/>
            <a:chExt cx="1066680" cy="1630080"/>
          </a:xfrm>
        </p:grpSpPr>
        <p:sp>
          <p:nvSpPr>
            <p:cNvPr id="115" name=""/>
            <p:cNvSpPr/>
            <p:nvPr/>
          </p:nvSpPr>
          <p:spPr>
            <a:xfrm>
              <a:off x="614520" y="2708280"/>
              <a:ext cx="106668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969696"/>
            </a:solidFill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80280" y="401076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969696"/>
            </a:solidFill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05240" y="2708280"/>
            <a:ext cx="1066680" cy="1630080"/>
            <a:chOff x="2505240" y="2708280"/>
            <a:chExt cx="1066680" cy="1630080"/>
          </a:xfrm>
        </p:grpSpPr>
        <p:sp>
          <p:nvSpPr>
            <p:cNvPr id="118" name=""/>
            <p:cNvSpPr/>
            <p:nvPr/>
          </p:nvSpPr>
          <p:spPr>
            <a:xfrm>
              <a:off x="2505240" y="2708280"/>
              <a:ext cx="106668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1000" y="401076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305240" y="2708280"/>
            <a:ext cx="1067040" cy="1630080"/>
            <a:chOff x="4305240" y="2708280"/>
            <a:chExt cx="1067040" cy="1630080"/>
          </a:xfrm>
        </p:grpSpPr>
        <p:sp>
          <p:nvSpPr>
            <p:cNvPr id="121" name=""/>
            <p:cNvSpPr/>
            <p:nvPr/>
          </p:nvSpPr>
          <p:spPr>
            <a:xfrm>
              <a:off x="4305240" y="2708280"/>
              <a:ext cx="106704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3366ff"/>
            </a:solidFill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71000" y="401076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3366ff"/>
            </a:solidFill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76880" y="2708280"/>
            <a:ext cx="1067040" cy="1630080"/>
            <a:chOff x="6176880" y="2708280"/>
            <a:chExt cx="1067040" cy="1630080"/>
          </a:xfrm>
        </p:grpSpPr>
        <p:sp>
          <p:nvSpPr>
            <p:cNvPr id="124" name=""/>
            <p:cNvSpPr/>
            <p:nvPr/>
          </p:nvSpPr>
          <p:spPr>
            <a:xfrm>
              <a:off x="6176880" y="2708280"/>
              <a:ext cx="106704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808000"/>
            </a:solidFill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42640" y="401076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808000"/>
            </a:solidFill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8121600" y="2708280"/>
            <a:ext cx="1066680" cy="1630080"/>
            <a:chOff x="8121600" y="2708280"/>
            <a:chExt cx="1066680" cy="1630080"/>
          </a:xfrm>
        </p:grpSpPr>
        <p:sp>
          <p:nvSpPr>
            <p:cNvPr id="127" name=""/>
            <p:cNvSpPr/>
            <p:nvPr/>
          </p:nvSpPr>
          <p:spPr>
            <a:xfrm>
              <a:off x="8121600" y="2708280"/>
              <a:ext cx="106668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87360" y="401076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60240" y="4697280"/>
            <a:ext cx="1067040" cy="1630080"/>
            <a:chOff x="660240" y="4697280"/>
            <a:chExt cx="1067040" cy="1630080"/>
          </a:xfrm>
        </p:grpSpPr>
        <p:sp>
          <p:nvSpPr>
            <p:cNvPr id="130" name=""/>
            <p:cNvSpPr/>
            <p:nvPr/>
          </p:nvSpPr>
          <p:spPr>
            <a:xfrm>
              <a:off x="660240" y="4697280"/>
              <a:ext cx="106704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26000" y="599976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505240" y="4697280"/>
            <a:ext cx="1066680" cy="1630080"/>
            <a:chOff x="2505240" y="4697280"/>
            <a:chExt cx="1066680" cy="1630080"/>
          </a:xfrm>
        </p:grpSpPr>
        <p:sp>
          <p:nvSpPr>
            <p:cNvPr id="133" name=""/>
            <p:cNvSpPr/>
            <p:nvPr/>
          </p:nvSpPr>
          <p:spPr>
            <a:xfrm>
              <a:off x="2505240" y="4697280"/>
              <a:ext cx="106668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71000" y="599976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376880" y="4697280"/>
            <a:ext cx="1066680" cy="1630080"/>
            <a:chOff x="4376880" y="4697280"/>
            <a:chExt cx="1066680" cy="1630080"/>
          </a:xfrm>
        </p:grpSpPr>
        <p:sp>
          <p:nvSpPr>
            <p:cNvPr id="136" name=""/>
            <p:cNvSpPr/>
            <p:nvPr/>
          </p:nvSpPr>
          <p:spPr>
            <a:xfrm>
              <a:off x="4376880" y="4697280"/>
              <a:ext cx="106668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42640" y="599976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176880" y="4697280"/>
            <a:ext cx="1067040" cy="1630080"/>
            <a:chOff x="6176880" y="4697280"/>
            <a:chExt cx="1067040" cy="1630080"/>
          </a:xfrm>
        </p:grpSpPr>
        <p:sp>
          <p:nvSpPr>
            <p:cNvPr id="139" name=""/>
            <p:cNvSpPr/>
            <p:nvPr/>
          </p:nvSpPr>
          <p:spPr>
            <a:xfrm>
              <a:off x="6176880" y="4697280"/>
              <a:ext cx="106704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42640" y="599976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8121600" y="4697280"/>
            <a:ext cx="1066680" cy="1630080"/>
            <a:chOff x="8121600" y="4697280"/>
            <a:chExt cx="1066680" cy="1630080"/>
          </a:xfrm>
        </p:grpSpPr>
        <p:sp>
          <p:nvSpPr>
            <p:cNvPr id="142" name=""/>
            <p:cNvSpPr/>
            <p:nvPr/>
          </p:nvSpPr>
          <p:spPr>
            <a:xfrm>
              <a:off x="8121600" y="4697280"/>
              <a:ext cx="106668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87360" y="599976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14520" y="765000"/>
            <a:ext cx="1066680" cy="1630080"/>
            <a:chOff x="614520" y="765000"/>
            <a:chExt cx="1066680" cy="1630080"/>
          </a:xfrm>
        </p:grpSpPr>
        <p:sp>
          <p:nvSpPr>
            <p:cNvPr id="145" name=""/>
            <p:cNvSpPr/>
            <p:nvPr/>
          </p:nvSpPr>
          <p:spPr>
            <a:xfrm>
              <a:off x="614520" y="765000"/>
              <a:ext cx="106668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969696"/>
            </a:solidFill>
            <a:ln w="127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80280" y="206748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969696"/>
            </a:solidFill>
            <a:ln w="127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32160" y="765000"/>
            <a:ext cx="1066680" cy="1630080"/>
            <a:chOff x="2432160" y="765000"/>
            <a:chExt cx="1066680" cy="1630080"/>
          </a:xfrm>
        </p:grpSpPr>
        <p:sp>
          <p:nvSpPr>
            <p:cNvPr id="148" name=""/>
            <p:cNvSpPr/>
            <p:nvPr/>
          </p:nvSpPr>
          <p:spPr>
            <a:xfrm>
              <a:off x="2432160" y="765000"/>
              <a:ext cx="106668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ff0000"/>
            </a:solidFill>
            <a:ln w="127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97920" y="206748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ff0000"/>
            </a:solidFill>
            <a:ln w="127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305240" y="765000"/>
            <a:ext cx="1067040" cy="1630080"/>
            <a:chOff x="4305240" y="765000"/>
            <a:chExt cx="1067040" cy="1630080"/>
          </a:xfrm>
        </p:grpSpPr>
        <p:sp>
          <p:nvSpPr>
            <p:cNvPr id="151" name=""/>
            <p:cNvSpPr/>
            <p:nvPr/>
          </p:nvSpPr>
          <p:spPr>
            <a:xfrm>
              <a:off x="4305240" y="765000"/>
              <a:ext cx="106704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3366ff"/>
            </a:solidFill>
            <a:ln w="127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71000" y="206748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3366ff"/>
            </a:solidFill>
            <a:ln w="127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248520" y="765000"/>
            <a:ext cx="1066680" cy="1630080"/>
            <a:chOff x="6248520" y="765000"/>
            <a:chExt cx="1066680" cy="1630080"/>
          </a:xfrm>
        </p:grpSpPr>
        <p:sp>
          <p:nvSpPr>
            <p:cNvPr id="154" name=""/>
            <p:cNvSpPr/>
            <p:nvPr/>
          </p:nvSpPr>
          <p:spPr>
            <a:xfrm>
              <a:off x="6248520" y="765000"/>
              <a:ext cx="106668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808000"/>
            </a:solidFill>
            <a:ln w="12708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4280" y="206748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808000"/>
            </a:solidFill>
            <a:ln w="12708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8121600" y="765000"/>
            <a:ext cx="1066680" cy="1630080"/>
            <a:chOff x="8121600" y="765000"/>
            <a:chExt cx="1066680" cy="1630080"/>
          </a:xfrm>
        </p:grpSpPr>
        <p:sp>
          <p:nvSpPr>
            <p:cNvPr id="157" name=""/>
            <p:cNvSpPr/>
            <p:nvPr/>
          </p:nvSpPr>
          <p:spPr>
            <a:xfrm>
              <a:off x="8121600" y="765000"/>
              <a:ext cx="1066680" cy="1256400"/>
            </a:xfrm>
            <a:custGeom>
              <a:avLst/>
              <a:gdLst/>
              <a:ahLst/>
              <a:rect l="l" t="t" r="r" b="b"/>
              <a:pathLst>
                <a:path w="1615" h="1974">
                  <a:moveTo>
                    <a:pt x="14" y="604"/>
                  </a:moveTo>
                  <a:cubicBezTo>
                    <a:pt x="0" y="703"/>
                    <a:pt x="113" y="836"/>
                    <a:pt x="212" y="803"/>
                  </a:cubicBezTo>
                  <a:cubicBezTo>
                    <a:pt x="311" y="770"/>
                    <a:pt x="477" y="472"/>
                    <a:pt x="609" y="406"/>
                  </a:cubicBezTo>
                  <a:cubicBezTo>
                    <a:pt x="741" y="340"/>
                    <a:pt x="902" y="335"/>
                    <a:pt x="1006" y="406"/>
                  </a:cubicBezTo>
                  <a:cubicBezTo>
                    <a:pt x="1110" y="477"/>
                    <a:pt x="1261" y="699"/>
                    <a:pt x="1233" y="831"/>
                  </a:cubicBezTo>
                  <a:cubicBezTo>
                    <a:pt x="1205" y="963"/>
                    <a:pt x="945" y="1106"/>
                    <a:pt x="836" y="1200"/>
                  </a:cubicBezTo>
                  <a:cubicBezTo>
                    <a:pt x="727" y="1294"/>
                    <a:pt x="619" y="1294"/>
                    <a:pt x="581" y="1398"/>
                  </a:cubicBezTo>
                  <a:cubicBezTo>
                    <a:pt x="543" y="1502"/>
                    <a:pt x="571" y="1729"/>
                    <a:pt x="609" y="1823"/>
                  </a:cubicBezTo>
                  <a:cubicBezTo>
                    <a:pt x="647" y="1917"/>
                    <a:pt x="736" y="1974"/>
                    <a:pt x="807" y="1965"/>
                  </a:cubicBezTo>
                  <a:cubicBezTo>
                    <a:pt x="878" y="1956"/>
                    <a:pt x="1001" y="1838"/>
                    <a:pt x="1034" y="1767"/>
                  </a:cubicBezTo>
                  <a:cubicBezTo>
                    <a:pt x="1067" y="1696"/>
                    <a:pt x="930" y="1639"/>
                    <a:pt x="1006" y="1540"/>
                  </a:cubicBezTo>
                  <a:cubicBezTo>
                    <a:pt x="1082" y="1441"/>
                    <a:pt x="1389" y="1294"/>
                    <a:pt x="1488" y="1171"/>
                  </a:cubicBezTo>
                  <a:cubicBezTo>
                    <a:pt x="1587" y="1048"/>
                    <a:pt x="1615" y="954"/>
                    <a:pt x="1601" y="803"/>
                  </a:cubicBezTo>
                  <a:cubicBezTo>
                    <a:pt x="1587" y="652"/>
                    <a:pt x="1535" y="396"/>
                    <a:pt x="1403" y="264"/>
                  </a:cubicBezTo>
                  <a:cubicBezTo>
                    <a:pt x="1271" y="132"/>
                    <a:pt x="991" y="18"/>
                    <a:pt x="807" y="9"/>
                  </a:cubicBezTo>
                  <a:cubicBezTo>
                    <a:pt x="623" y="0"/>
                    <a:pt x="429" y="108"/>
                    <a:pt x="297" y="207"/>
                  </a:cubicBezTo>
                  <a:cubicBezTo>
                    <a:pt x="165" y="306"/>
                    <a:pt x="28" y="505"/>
                    <a:pt x="14" y="604"/>
                  </a:cubicBezTo>
                  <a:close/>
                </a:path>
              </a:pathLst>
            </a:custGeom>
            <a:solidFill>
              <a:srgbClr val="cc99ff"/>
            </a:solidFill>
            <a:ln w="1270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87360" y="2067480"/>
              <a:ext cx="383400" cy="32760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410" y="38"/>
                  </a:moveTo>
                  <a:cubicBezTo>
                    <a:pt x="292" y="76"/>
                    <a:pt x="28" y="240"/>
                    <a:pt x="14" y="349"/>
                  </a:cubicBezTo>
                  <a:cubicBezTo>
                    <a:pt x="0" y="458"/>
                    <a:pt x="202" y="681"/>
                    <a:pt x="325" y="690"/>
                  </a:cubicBezTo>
                  <a:cubicBezTo>
                    <a:pt x="448" y="699"/>
                    <a:pt x="685" y="501"/>
                    <a:pt x="751" y="406"/>
                  </a:cubicBezTo>
                  <a:cubicBezTo>
                    <a:pt x="817" y="311"/>
                    <a:pt x="779" y="184"/>
                    <a:pt x="722" y="123"/>
                  </a:cubicBezTo>
                  <a:cubicBezTo>
                    <a:pt x="665" y="62"/>
                    <a:pt x="528" y="0"/>
                    <a:pt x="410" y="38"/>
                  </a:cubicBezTo>
                  <a:close/>
                </a:path>
              </a:pathLst>
            </a:custGeom>
            <a:solidFill>
              <a:srgbClr val="cc99ff"/>
            </a:solidFill>
            <a:ln w="1270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750960" y="2798640"/>
            <a:ext cx="1020600" cy="1530360"/>
            <a:chOff x="750960" y="2798640"/>
            <a:chExt cx="1020600" cy="1530360"/>
          </a:xfrm>
        </p:grpSpPr>
        <p:sp>
          <p:nvSpPr>
            <p:cNvPr id="160" name=""/>
            <p:cNvSpPr/>
            <p:nvPr/>
          </p:nvSpPr>
          <p:spPr>
            <a:xfrm>
              <a:off x="113400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34000" y="3691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34000" y="38192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6180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180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8924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8924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61800" y="3691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61800" y="38192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1704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1704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4448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7804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96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0960" y="31816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804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8040" y="31816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06200" y="27986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0620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3280" y="27986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3328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0620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0960" y="3308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78040" y="3308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61080" y="27986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6108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88520" y="27986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8852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852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1632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1632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16320" y="31816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4376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43760" y="31816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16320" y="3308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43760" y="3308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6108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1632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4448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33280" y="4073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33280" y="420192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61080" y="4073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61080" y="420192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22160" y="4734000"/>
            <a:ext cx="1049040" cy="1574640"/>
            <a:chOff x="722160" y="4734000"/>
            <a:chExt cx="1049040" cy="1574640"/>
          </a:xfrm>
        </p:grpSpPr>
        <p:sp>
          <p:nvSpPr>
            <p:cNvPr id="204" name=""/>
            <p:cNvSpPr/>
            <p:nvPr/>
          </p:nvSpPr>
          <p:spPr>
            <a:xfrm>
              <a:off x="1247040" y="61779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47040" y="62434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12560" y="61779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16000" y="61117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81520" y="60462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1520" y="61117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16000" y="61779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81520" y="61779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81520" y="62434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47040" y="60462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47040" y="61117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12560" y="61117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7040" y="57844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47040" y="58500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12560" y="57844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16000" y="56527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16000" y="57182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81520" y="56527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1520" y="57182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16000" y="57844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81520" y="57844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1520" y="58500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47040" y="56527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47040" y="57182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12560" y="56527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12560" y="57182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78080" y="55220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78080" y="55872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3600" y="55220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3600" y="55872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47040" y="54558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12560" y="54558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47040" y="55220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47040" y="55872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12560" y="55220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12560" y="55872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78080" y="53902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78080" y="54558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43600" y="53902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43600" y="54558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40520" y="53902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40520" y="54558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09840" y="52588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09840" y="5324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75000" y="52588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75000" y="5324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9840" y="53902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9840" y="54558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75000" y="53902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75000" y="54558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40520" y="52588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40520" y="5324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06040" y="52588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06040" y="5324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52840" y="52596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52840" y="53251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8360" y="52596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2160" y="51278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2160" y="51933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7320" y="51278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51933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2160" y="52596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7320" y="52596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7320" y="53251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2840" y="51278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52840" y="51933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18360" y="51278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18360" y="51933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84600" y="49971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84600" y="50623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012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356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1908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908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5356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356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908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1908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84600" y="4865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84600" y="49309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5012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5012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4704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4704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12560" y="4865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12560" y="49309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16000" y="47340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16000" y="4799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81520" y="47340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81520" y="47991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1600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1600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1520" y="4865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81520" y="49309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47040" y="47340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47040" y="4799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12560" y="47340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12560" y="47991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912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0912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7464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7464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7808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7808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3600" y="4865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43600" y="49309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7808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3600" y="49971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43600" y="50623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912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0912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7464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40520" y="51278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40520" y="51933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06040" y="51278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06040" y="51933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6000" y="55872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81520" y="55220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81520" y="55872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09840" y="51278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09840" y="51933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75000" y="51278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75000" y="51933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40520" y="49964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40520" y="50619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732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8732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09840" y="55220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75000" y="55220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84600" y="47998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50120" y="47998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78080" y="47998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3600" y="47998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22160" y="819000"/>
            <a:ext cx="1049400" cy="1574640"/>
            <a:chOff x="722160" y="819000"/>
            <a:chExt cx="1049400" cy="1574640"/>
          </a:xfrm>
        </p:grpSpPr>
        <p:sp>
          <p:nvSpPr>
            <p:cNvPr id="338" name=""/>
            <p:cNvSpPr/>
            <p:nvPr/>
          </p:nvSpPr>
          <p:spPr>
            <a:xfrm>
              <a:off x="984600" y="81900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47040" y="819000"/>
              <a:ext cx="262080" cy="262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2160" y="95040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2160" y="1213200"/>
              <a:ext cx="262440" cy="262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09120" y="95040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09120" y="1213200"/>
              <a:ext cx="262440" cy="262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77720" y="147564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15280" y="147564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15280" y="2131560"/>
              <a:ext cx="262440" cy="262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15280" y="173736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95600" y="2798640"/>
            <a:ext cx="1020600" cy="1530360"/>
            <a:chOff x="2595600" y="2798640"/>
            <a:chExt cx="1020600" cy="1530360"/>
          </a:xfrm>
        </p:grpSpPr>
        <p:sp>
          <p:nvSpPr>
            <p:cNvPr id="349" name=""/>
            <p:cNvSpPr/>
            <p:nvPr/>
          </p:nvSpPr>
          <p:spPr>
            <a:xfrm>
              <a:off x="2978640" y="356400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78640" y="36914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78640" y="38192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06440" y="343620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06440" y="356400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33880" y="343620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33880" y="356400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06440" y="36914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06440" y="38192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61680" y="343620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1680" y="356400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89120" y="343620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22680" y="29264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95600" y="305388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95600" y="318168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22680" y="305388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22680" y="318168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50840" y="27986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50840" y="29264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7920" y="27986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77920" y="29264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50840" y="305388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95600" y="330876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22680" y="330876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05720" y="27986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05720" y="29264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33160" y="27986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33160" y="29264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33160" y="305388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60960" y="292644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60960" y="305388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60960" y="318168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8400" y="305388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88400" y="318168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60960" y="330876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88400" y="330876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05720" y="343620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60960" y="356400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89120" y="343620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77920" y="407376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7920" y="420192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05720" y="407376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05720" y="4201920"/>
              <a:ext cx="127080" cy="127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67160" y="4734000"/>
            <a:ext cx="1048680" cy="1574640"/>
            <a:chOff x="2567160" y="4734000"/>
            <a:chExt cx="1048680" cy="1574640"/>
          </a:xfrm>
        </p:grpSpPr>
        <p:sp>
          <p:nvSpPr>
            <p:cNvPr id="393" name=""/>
            <p:cNvSpPr/>
            <p:nvPr/>
          </p:nvSpPr>
          <p:spPr>
            <a:xfrm>
              <a:off x="3092040" y="61779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92040" y="624348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57560" y="617796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61000" y="61117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6520" y="60462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26520" y="611172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1000" y="61779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26520" y="617796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26520" y="624348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92040" y="60462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2040" y="61117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57560" y="611172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92040" y="578448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92040" y="58500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57560" y="578448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61000" y="56527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61000" y="571824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26520" y="565272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26520" y="571824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61000" y="578448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26520" y="578448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26520" y="58500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92040" y="56527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92040" y="571824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57560" y="565272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57560" y="571824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22720" y="552204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22720" y="55872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88240" y="552204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88240" y="55872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92040" y="54558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7560" y="54558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92040" y="552204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92040" y="55872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57560" y="552204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57560" y="55872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22720" y="539028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22720" y="54558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88240" y="539028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88240" y="54558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85160" y="539028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85160" y="54558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54480" y="525888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54480" y="53244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19640" y="525888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19640" y="53244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54480" y="539028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54480" y="54558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19640" y="539028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19640" y="54558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85160" y="525888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85160" y="53244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50680" y="525888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50680" y="53244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7840" y="52596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97840" y="53251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63360" y="52596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67160" y="512784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67160" y="519336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32320" y="512784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32320" y="51933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67160" y="52596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32320" y="52596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32320" y="53251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97840" y="512784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97840" y="51933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63360" y="512784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63360" y="519336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29600" y="499716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29600" y="506232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4760" y="49971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98560" y="49309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64080" y="48654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64080" y="49309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98560" y="49971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98560" y="50623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64080" y="49971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64080" y="50623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29600" y="48654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29600" y="493092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94760" y="48654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94760" y="49309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92040" y="48654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92040" y="49309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57560" y="48654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57560" y="493092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61000" y="47340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61000" y="47991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26520" y="47340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26520" y="479916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61000" y="48654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61000" y="49309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26520" y="48654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26520" y="493092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92040" y="47340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92040" y="47991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57560" y="47340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57560" y="479916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53760" y="49971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3760" y="50623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19280" y="49971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19280" y="50623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2720" y="48654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22720" y="49309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88240" y="48654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88240" y="493092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22720" y="49971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88240" y="499716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88240" y="506232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53760" y="48654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53760" y="49309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19280" y="49309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85160" y="512784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85160" y="51933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50680" y="512784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50680" y="519336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61000" y="558720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26520" y="552204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26520" y="558720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54480" y="512784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54480" y="519336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19640" y="512784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19640" y="51933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85160" y="499644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85160" y="50619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32320" y="499716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32320" y="506232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54480" y="552204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19640" y="552204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29600" y="479988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94760" y="479988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22720" y="4799880"/>
              <a:ext cx="6552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88240" y="4799880"/>
              <a:ext cx="65160" cy="65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567160" y="819000"/>
            <a:ext cx="1048680" cy="1574640"/>
            <a:chOff x="2567160" y="819000"/>
            <a:chExt cx="1048680" cy="1574640"/>
          </a:xfrm>
        </p:grpSpPr>
        <p:sp>
          <p:nvSpPr>
            <p:cNvPr id="527" name=""/>
            <p:cNvSpPr/>
            <p:nvPr/>
          </p:nvSpPr>
          <p:spPr>
            <a:xfrm>
              <a:off x="2829240" y="819000"/>
              <a:ext cx="262080" cy="262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91680" y="819000"/>
              <a:ext cx="262080" cy="262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67160" y="950400"/>
              <a:ext cx="262080" cy="262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67160" y="1213200"/>
              <a:ext cx="262080" cy="262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53760" y="950400"/>
              <a:ext cx="262080" cy="262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53760" y="1213200"/>
              <a:ext cx="262080" cy="262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22360" y="1475640"/>
              <a:ext cx="262080" cy="262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60280" y="1475640"/>
              <a:ext cx="262080" cy="262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60280" y="2131560"/>
              <a:ext cx="262080" cy="262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60280" y="1737360"/>
              <a:ext cx="262080" cy="262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429080" y="4734000"/>
            <a:ext cx="1049400" cy="1574640"/>
            <a:chOff x="4429080" y="4734000"/>
            <a:chExt cx="1049400" cy="1574640"/>
          </a:xfrm>
        </p:grpSpPr>
        <p:sp>
          <p:nvSpPr>
            <p:cNvPr id="538" name=""/>
            <p:cNvSpPr/>
            <p:nvPr/>
          </p:nvSpPr>
          <p:spPr>
            <a:xfrm>
              <a:off x="4954680" y="617868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54680" y="624348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19840" y="6178680"/>
              <a:ext cx="6480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22920" y="611172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88080" y="6046920"/>
              <a:ext cx="6660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88080" y="611172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22920" y="617868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88080" y="6178680"/>
              <a:ext cx="6660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88080" y="624348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54680" y="604692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54680" y="611172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19840" y="6111720"/>
              <a:ext cx="648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954680" y="578484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54680" y="585000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19840" y="5784840"/>
              <a:ext cx="648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22920" y="565308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22920" y="571824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88080" y="565308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88080" y="571824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22920" y="578484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578484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88080" y="585000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54680" y="565308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54680" y="571824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19840" y="5653080"/>
              <a:ext cx="648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19840" y="5718240"/>
              <a:ext cx="648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84640" y="5521320"/>
              <a:ext cx="6516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84640" y="558792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49800" y="5521320"/>
              <a:ext cx="6660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49800" y="558792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54680" y="545616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19840" y="5456160"/>
              <a:ext cx="648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54680" y="5521320"/>
              <a:ext cx="6516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54680" y="558792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19840" y="5521320"/>
              <a:ext cx="6480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19840" y="5587920"/>
              <a:ext cx="648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84640" y="539100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84640" y="545616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49800" y="539100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49800" y="545616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48160" y="539100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48160" y="545616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16400" y="525924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16400" y="532440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81560" y="525924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81560" y="532440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16400" y="539100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16400" y="545616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81560" y="539100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81560" y="545616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48160" y="525924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48160" y="532440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13320" y="525924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13320" y="532440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59400" y="525924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559400" y="5324400"/>
              <a:ext cx="6660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26000" y="525924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429080" y="512748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29080" y="5192640"/>
              <a:ext cx="6516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94240" y="512748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94240" y="5192640"/>
              <a:ext cx="6516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29080" y="525924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4240" y="525924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94240" y="5324400"/>
              <a:ext cx="6516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59400" y="512748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59400" y="5192640"/>
              <a:ext cx="6660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26000" y="512748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26000" y="5192640"/>
              <a:ext cx="6516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91160" y="499752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91160" y="5062680"/>
              <a:ext cx="6660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57760" y="499752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60840" y="493092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26000" y="486576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26000" y="493092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60840" y="499752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60840" y="506268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26000" y="499752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6000" y="506268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91160" y="486576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91160" y="4930920"/>
              <a:ext cx="6660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57760" y="486576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757760" y="493092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954680" y="486576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54680" y="493092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19840" y="4865760"/>
              <a:ext cx="648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19840" y="4930920"/>
              <a:ext cx="6480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22920" y="473400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22920" y="479916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888080" y="473400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88080" y="4799160"/>
              <a:ext cx="6660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22920" y="486576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22920" y="493092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88080" y="486576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88080" y="4930920"/>
              <a:ext cx="6660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54680" y="473400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54680" y="479916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19840" y="4734000"/>
              <a:ext cx="648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19840" y="4799160"/>
              <a:ext cx="6480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16400" y="499752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16400" y="506268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81560" y="499752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81560" y="506268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84640" y="486576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84640" y="493092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149800" y="486576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49800" y="4930920"/>
              <a:ext cx="6660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84640" y="499752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49800" y="499752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49800" y="5062680"/>
              <a:ext cx="6660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16400" y="486576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16400" y="493092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81560" y="493092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348160" y="512748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48160" y="5192640"/>
              <a:ext cx="6516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13320" y="512748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13320" y="5192640"/>
              <a:ext cx="6516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22920" y="558792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88080" y="5521320"/>
              <a:ext cx="6660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88080" y="558792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16400" y="512748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216400" y="5192640"/>
              <a:ext cx="6516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281560" y="512748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81560" y="5192640"/>
              <a:ext cx="6660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48160" y="4995720"/>
              <a:ext cx="65160" cy="669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48160" y="506268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94240" y="499752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94240" y="5062680"/>
              <a:ext cx="65160" cy="648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16400" y="5521320"/>
              <a:ext cx="6516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281560" y="5521320"/>
              <a:ext cx="66600" cy="6660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91160" y="480060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57760" y="480060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84640" y="4800600"/>
              <a:ext cx="6516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49800" y="4800600"/>
              <a:ext cx="66600" cy="651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302520" y="2798640"/>
            <a:ext cx="1020600" cy="1530360"/>
            <a:chOff x="6302520" y="2798640"/>
            <a:chExt cx="1020600" cy="1530360"/>
          </a:xfrm>
        </p:grpSpPr>
        <p:sp>
          <p:nvSpPr>
            <p:cNvPr id="672" name=""/>
            <p:cNvSpPr/>
            <p:nvPr/>
          </p:nvSpPr>
          <p:spPr>
            <a:xfrm>
              <a:off x="668556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685560" y="3691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85560" y="38192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1336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1336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4080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94080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13360" y="3691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13360" y="38192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6860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6860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9604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2960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0252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02520" y="31816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42960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429600" y="31816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57760" y="27986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5776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684840" y="27986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68484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5776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02520" y="3308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429600" y="3308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812640" y="27986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81264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940080" y="27986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4008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4008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06788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06788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67880" y="31816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9532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95320" y="31816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67880" y="3308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5320" y="3308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1264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6788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9604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84840" y="4073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84840" y="420192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12640" y="4073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12640" y="420192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273720" y="4734000"/>
            <a:ext cx="1049040" cy="1574640"/>
            <a:chOff x="6273720" y="4734000"/>
            <a:chExt cx="1049040" cy="1574640"/>
          </a:xfrm>
        </p:grpSpPr>
        <p:sp>
          <p:nvSpPr>
            <p:cNvPr id="716" name=""/>
            <p:cNvSpPr/>
            <p:nvPr/>
          </p:nvSpPr>
          <p:spPr>
            <a:xfrm>
              <a:off x="6798600" y="61779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98600" y="62434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864120" y="61779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667560" y="61117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33080" y="60462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33080" y="61117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67560" y="61779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33080" y="61779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33080" y="62434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98600" y="60462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98600" y="61117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864120" y="61117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98600" y="57844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98600" y="58500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64120" y="57844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667560" y="56527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67560" y="57182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33080" y="56527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733080" y="57182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67560" y="57844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733080" y="57844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33080" y="58500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798600" y="56527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798600" y="57182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64120" y="56527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64120" y="57182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929640" y="55220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929640" y="55872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95160" y="55220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95160" y="55872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798600" y="54558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864120" y="54558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98600" y="55220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98600" y="55872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64120" y="55220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64120" y="55872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29640" y="53902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929640" y="54558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995160" y="53902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995160" y="54558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92080" y="53902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92080" y="54558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61400" y="52588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61400" y="5324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126560" y="52588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26560" y="5324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61400" y="53902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61400" y="54558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26560" y="53902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26560" y="54558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92080" y="52588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92080" y="5324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57600" y="52588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57600" y="5324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04400" y="52596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04400" y="53251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69920" y="52596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73720" y="51278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73720" y="51933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338880" y="51278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38880" y="51933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273720" y="52596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38880" y="52596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338880" y="53251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404400" y="51278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04400" y="51933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69920" y="51278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69920" y="51933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536160" y="49971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36160" y="50623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60168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0512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7064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47064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0512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40512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7064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7064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36160" y="4865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36160" y="49309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60168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60168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9860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79860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64120" y="4865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64120" y="49309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667560" y="47340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67560" y="4799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733080" y="47340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33080" y="47991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6756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66756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33080" y="4865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33080" y="49309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98600" y="47340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798600" y="4799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864120" y="47340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64120" y="47991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06068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6068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2620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2620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2964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2964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95160" y="4865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95160" y="49309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92964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95160" y="49971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95160" y="50623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6068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6068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2620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192080" y="51278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92080" y="51933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57600" y="51278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57600" y="51933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67560" y="55872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733080" y="55220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33080" y="55872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61400" y="51278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1400" y="51933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26560" y="51278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26560" y="51933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92080" y="49964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92080" y="50619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3888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3888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61400" y="55220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26560" y="55220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36160" y="47998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601680" y="47998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29640" y="47998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995160" y="47998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6273720" y="819000"/>
            <a:ext cx="1049400" cy="1574640"/>
            <a:chOff x="6273720" y="819000"/>
            <a:chExt cx="1049400" cy="1574640"/>
          </a:xfrm>
        </p:grpSpPr>
        <p:sp>
          <p:nvSpPr>
            <p:cNvPr id="850" name=""/>
            <p:cNvSpPr/>
            <p:nvPr/>
          </p:nvSpPr>
          <p:spPr>
            <a:xfrm>
              <a:off x="6536160" y="81900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98600" y="819000"/>
              <a:ext cx="262080" cy="26244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73720" y="95040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273720" y="1213200"/>
              <a:ext cx="262440" cy="262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60680" y="95040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60680" y="1213200"/>
              <a:ext cx="262440" cy="262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929280" y="147564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6840" y="147564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66840" y="2131560"/>
              <a:ext cx="262440" cy="26208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66840" y="173736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8177040" y="2798640"/>
            <a:ext cx="1020600" cy="1530360"/>
            <a:chOff x="8177040" y="2798640"/>
            <a:chExt cx="1020600" cy="1530360"/>
          </a:xfrm>
        </p:grpSpPr>
        <p:sp>
          <p:nvSpPr>
            <p:cNvPr id="861" name=""/>
            <p:cNvSpPr/>
            <p:nvPr/>
          </p:nvSpPr>
          <p:spPr>
            <a:xfrm>
              <a:off x="856008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560080" y="3691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560080" y="38192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68824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68824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81532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81532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688240" y="3691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688240" y="38192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94348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94348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07056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30412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17704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77040" y="31816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30412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04120" y="31816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432280" y="27986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43228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559360" y="27986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5936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43228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177040" y="3308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304120" y="3308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687520" y="2798640"/>
              <a:ext cx="12744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87520" y="2926440"/>
              <a:ext cx="12744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814960" y="27986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81496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81496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942760" y="292644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94276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942760" y="31816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069840" y="30538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069840" y="318168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942760" y="3308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069840" y="3308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87520" y="3436200"/>
              <a:ext cx="12744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942760" y="35640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9070560" y="343620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559360" y="407376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559360" y="4201920"/>
              <a:ext cx="12708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687520" y="4073760"/>
              <a:ext cx="12744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687520" y="4201920"/>
              <a:ext cx="127440" cy="127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8148600" y="4734000"/>
            <a:ext cx="1049040" cy="1574640"/>
            <a:chOff x="8148600" y="4734000"/>
            <a:chExt cx="1049040" cy="1574640"/>
          </a:xfrm>
        </p:grpSpPr>
        <p:sp>
          <p:nvSpPr>
            <p:cNvPr id="905" name=""/>
            <p:cNvSpPr/>
            <p:nvPr/>
          </p:nvSpPr>
          <p:spPr>
            <a:xfrm>
              <a:off x="8673480" y="61779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673480" y="62434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739000" y="61779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542440" y="61117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607960" y="60462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607960" y="61117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542440" y="61779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607960" y="61779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607960" y="62434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673480" y="60462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673480" y="61117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739000" y="61117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673480" y="57844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673480" y="58500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739000" y="57844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542440" y="56527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542440" y="57182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07960" y="56527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607960" y="57182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542440" y="57844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607960" y="57844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607960" y="58500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673480" y="56527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673480" y="57182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739000" y="56527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739000" y="57182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804520" y="55220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804520" y="55872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870040" y="55220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870040" y="55872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673480" y="54558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739000" y="54558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673480" y="55220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673480" y="55872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739000" y="55220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739000" y="55872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804520" y="53902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804520" y="54558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870040" y="53902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870040" y="54558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066960" y="53902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9066960" y="54558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936280" y="52588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936280" y="5324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001440" y="52588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001440" y="5324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936280" y="53902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936280" y="54558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001440" y="53902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001440" y="54558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066960" y="52588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9066960" y="5324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9132480" y="52588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9132480" y="5324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279280" y="52596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279280" y="53251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344800" y="52596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148600" y="51278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148600" y="51933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213760" y="51278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213760" y="51933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148600" y="52596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213760" y="52596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213760" y="53251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279280" y="51278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279280" y="51933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344800" y="51278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344800" y="51933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411040" y="49971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11040" y="50623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7656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28000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34552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34552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28000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28000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34552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4552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411040" y="4865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411040" y="49309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47656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47656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67348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67348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739000" y="4865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739000" y="49309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542440" y="47340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542440" y="4799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607960" y="47340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607960" y="47991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54244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54244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607960" y="4865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607960" y="49309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673480" y="47340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673480" y="4799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739000" y="47340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739000" y="47991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93556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93556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00108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00108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80452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80452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870040" y="48654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870040" y="49309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80452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870040" y="49971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870040" y="506232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935560" y="48654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893556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9001080" y="49309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9066960" y="51278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066960" y="51933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9132480" y="51278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132480" y="51933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542440" y="558720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607960" y="55220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607960" y="558720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936280" y="51278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936280" y="519336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9001440" y="51278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001440" y="51933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066960" y="49964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9066960" y="50619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213760" y="499716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213760" y="506232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936280" y="552204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9001440" y="552204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411040" y="47998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476560" y="47998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804520" y="4799880"/>
              <a:ext cx="6552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870040" y="4799880"/>
              <a:ext cx="65160" cy="65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8148600" y="819000"/>
            <a:ext cx="1049400" cy="1574640"/>
            <a:chOff x="8148600" y="819000"/>
            <a:chExt cx="1049400" cy="1574640"/>
          </a:xfrm>
        </p:grpSpPr>
        <p:sp>
          <p:nvSpPr>
            <p:cNvPr id="1039" name=""/>
            <p:cNvSpPr/>
            <p:nvPr/>
          </p:nvSpPr>
          <p:spPr>
            <a:xfrm>
              <a:off x="8411040" y="81900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673480" y="819000"/>
              <a:ext cx="262080" cy="2624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148600" y="95040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148600" y="1213200"/>
              <a:ext cx="262440" cy="262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935560" y="95040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935560" y="1213200"/>
              <a:ext cx="262440" cy="262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804160" y="147564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541720" y="147564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541720" y="2131560"/>
              <a:ext cx="262440" cy="262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541720" y="1737360"/>
              <a:ext cx="262440" cy="2624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429080" y="819000"/>
            <a:ext cx="1049400" cy="1575000"/>
            <a:chOff x="4429080" y="819000"/>
            <a:chExt cx="1049400" cy="1575000"/>
          </a:xfrm>
        </p:grpSpPr>
        <p:sp>
          <p:nvSpPr>
            <p:cNvPr id="1050" name=""/>
            <p:cNvSpPr/>
            <p:nvPr/>
          </p:nvSpPr>
          <p:spPr>
            <a:xfrm>
              <a:off x="4691160" y="819000"/>
              <a:ext cx="263520" cy="262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429080" y="1212840"/>
              <a:ext cx="262080" cy="2635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216400" y="950760"/>
              <a:ext cx="262080" cy="262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216400" y="1212840"/>
              <a:ext cx="262080" cy="2635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84640" y="1476360"/>
              <a:ext cx="262080" cy="262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822920" y="1476360"/>
              <a:ext cx="261720" cy="262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22920" y="2131920"/>
              <a:ext cx="261720" cy="262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22920" y="1736640"/>
              <a:ext cx="261720" cy="2635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429080" y="950760"/>
              <a:ext cx="262080" cy="262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54680" y="819000"/>
              <a:ext cx="261720" cy="262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4457880" y="2798640"/>
            <a:ext cx="1020600" cy="1530360"/>
            <a:chOff x="4457880" y="2798640"/>
            <a:chExt cx="1020600" cy="1530360"/>
          </a:xfrm>
        </p:grpSpPr>
        <p:sp>
          <p:nvSpPr>
            <p:cNvPr id="1061" name=""/>
            <p:cNvSpPr/>
            <p:nvPr/>
          </p:nvSpPr>
          <p:spPr>
            <a:xfrm>
              <a:off x="4840200" y="3564000"/>
              <a:ext cx="12852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840200" y="3691080"/>
              <a:ext cx="128520" cy="1285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68720" y="343692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968720" y="356400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095800" y="343692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095800" y="356400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68720" y="3691080"/>
              <a:ext cx="127080" cy="1285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224320" y="343692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224320" y="356400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51400" y="343692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584600" y="2927520"/>
              <a:ext cx="127080" cy="1267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713120" y="2927520"/>
              <a:ext cx="127080" cy="1267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840200" y="2927520"/>
              <a:ext cx="127080" cy="1267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457880" y="3308400"/>
              <a:ext cx="126720" cy="1285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584600" y="3308400"/>
              <a:ext cx="127080" cy="1285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22880" y="318132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349960" y="3181320"/>
              <a:ext cx="12852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22880" y="3308400"/>
              <a:ext cx="127080" cy="1285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49960" y="3308400"/>
              <a:ext cx="128520" cy="1285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68720" y="343692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222880" y="356400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351400" y="343692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40200" y="407340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840200" y="4202280"/>
              <a:ext cx="127080" cy="1267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68720" y="407340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968720" y="4202280"/>
              <a:ext cx="127080" cy="1267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968720" y="2927520"/>
              <a:ext cx="127080" cy="1267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095800" y="2927520"/>
              <a:ext cx="127080" cy="1267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095800" y="305424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222880" y="2927520"/>
              <a:ext cx="127080" cy="12672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222880" y="305424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349960" y="3054240"/>
              <a:ext cx="12852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57880" y="3181320"/>
              <a:ext cx="12672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584600" y="318132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713120" y="305424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713120" y="279864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840200" y="279864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968720" y="279864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095800" y="279864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68720" y="381960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40200" y="3819600"/>
              <a:ext cx="12852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584600" y="3054240"/>
              <a:ext cx="12708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457880" y="3054240"/>
              <a:ext cx="126720" cy="12708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"/>
          <p:cNvGrpSpPr/>
          <p:nvPr/>
        </p:nvGrpSpPr>
        <p:grpSpPr>
          <a:xfrm>
            <a:off x="468360" y="769680"/>
            <a:ext cx="1482120" cy="1555560"/>
            <a:chOff x="468360" y="769680"/>
            <a:chExt cx="1482120" cy="1555560"/>
          </a:xfrm>
        </p:grpSpPr>
        <p:grpSp>
          <p:nvGrpSpPr>
            <p:cNvPr id="1105" name=""/>
            <p:cNvGrpSpPr/>
            <p:nvPr/>
          </p:nvGrpSpPr>
          <p:grpSpPr>
            <a:xfrm>
              <a:off x="468360" y="1319400"/>
              <a:ext cx="1091160" cy="1005840"/>
              <a:chOff x="468360" y="1319400"/>
              <a:chExt cx="1091160" cy="1005840"/>
            </a:xfrm>
          </p:grpSpPr>
          <p:sp>
            <p:nvSpPr>
              <p:cNvPr id="1106" name=""/>
              <p:cNvSpPr/>
              <p:nvPr/>
            </p:nvSpPr>
            <p:spPr>
              <a:xfrm rot="20700000">
                <a:off x="586800" y="1370880"/>
                <a:ext cx="303840" cy="9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20700000">
                <a:off x="526680" y="1470960"/>
                <a:ext cx="243720" cy="9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20700000">
                <a:off x="496800" y="1563480"/>
                <a:ext cx="243720" cy="9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87880" y="1319400"/>
                <a:ext cx="883080" cy="884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0" name=""/>
              <p:cNvGrpSpPr/>
              <p:nvPr/>
            </p:nvGrpSpPr>
            <p:grpSpPr>
              <a:xfrm>
                <a:off x="468360" y="1757160"/>
                <a:ext cx="239400" cy="282960"/>
                <a:chOff x="468360" y="1757160"/>
                <a:chExt cx="239400" cy="282960"/>
              </a:xfrm>
            </p:grpSpPr>
            <p:sp>
              <p:nvSpPr>
                <p:cNvPr id="1111" name=""/>
                <p:cNvSpPr/>
                <p:nvPr/>
              </p:nvSpPr>
              <p:spPr>
                <a:xfrm rot="20700000">
                  <a:off x="496800" y="1776240"/>
                  <a:ext cx="1825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20700000">
                  <a:off x="525960" y="1803240"/>
                  <a:ext cx="14832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816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1320120" y="1757160"/>
                <a:ext cx="239400" cy="282960"/>
                <a:chOff x="1320120" y="1757160"/>
                <a:chExt cx="239400" cy="282960"/>
              </a:xfrm>
            </p:grpSpPr>
            <p:sp>
              <p:nvSpPr>
                <p:cNvPr id="1114" name=""/>
                <p:cNvSpPr/>
                <p:nvPr/>
              </p:nvSpPr>
              <p:spPr>
                <a:xfrm flipH="1" rot="900000">
                  <a:off x="1347840" y="1776600"/>
                  <a:ext cx="1825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H="1" rot="900000">
                  <a:off x="1352880" y="1802880"/>
                  <a:ext cx="14832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816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6" name=""/>
              <p:cNvSpPr/>
              <p:nvPr/>
            </p:nvSpPr>
            <p:spPr>
              <a:xfrm>
                <a:off x="618120" y="1410840"/>
                <a:ext cx="821880" cy="914400"/>
              </a:xfrm>
              <a:prstGeom prst="ellipse">
                <a:avLst/>
              </a:prstGeom>
              <a:gradFill rotWithShape="0">
                <a:gsLst>
                  <a:gs pos="0">
                    <a:srgbClr val="feddb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79320" y="1563480"/>
                <a:ext cx="328680" cy="365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044720" y="1563480"/>
                <a:ext cx="328680" cy="365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70400" y="1593720"/>
                <a:ext cx="152280" cy="152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136160" y="1593720"/>
                <a:ext cx="152280" cy="152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18900000">
                <a:off x="1044720" y="1440360"/>
                <a:ext cx="60840" cy="15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5085" y="1537"/>
                      <a:pt x="8570" y="5080"/>
                      <a:pt x="8570" y="10800"/>
                    </a:cubicBezTo>
                    <a:cubicBezTo>
                      <a:pt x="8570" y="16520"/>
                      <a:pt x="15085" y="2006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953280" y="1837800"/>
                <a:ext cx="152280" cy="243000"/>
              </a:xfrm>
              <a:prstGeom prst="ellipse">
                <a:avLst/>
              </a:prstGeom>
              <a:gradFill rotWithShape="0">
                <a:gsLst>
                  <a:gs pos="0">
                    <a:srgbClr val="feddb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5400000">
                <a:off x="983160" y="2050920"/>
                <a:ext cx="91440" cy="21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94" y="3191"/>
                      <a:pt x="17788" y="5080"/>
                      <a:pt x="17788" y="10800"/>
                    </a:cubicBezTo>
                    <a:cubicBezTo>
                      <a:pt x="17788" y="16520"/>
                      <a:pt x="19694" y="184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"/>
            <p:cNvSpPr txBox="1"/>
            <p:nvPr/>
          </p:nvSpPr>
          <p:spPr>
            <a:xfrm rot="1800000">
              <a:off x="1394640" y="834840"/>
              <a:ext cx="428400" cy="62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2383200" y="809280"/>
            <a:ext cx="1438920" cy="1515960"/>
            <a:chOff x="2383200" y="809280"/>
            <a:chExt cx="1438920" cy="1515960"/>
          </a:xfrm>
        </p:grpSpPr>
        <p:sp>
          <p:nvSpPr>
            <p:cNvPr id="1126" name=""/>
            <p:cNvSpPr/>
            <p:nvPr/>
          </p:nvSpPr>
          <p:spPr>
            <a:xfrm>
              <a:off x="2550240" y="1602720"/>
              <a:ext cx="328320" cy="36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915280" y="1602720"/>
              <a:ext cx="329040" cy="36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rot="18900000">
              <a:off x="2914920" y="1480680"/>
              <a:ext cx="61200" cy="15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 rot="1800000">
              <a:off x="3265920" y="874800"/>
              <a:ext cx="429120" cy="62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2387520" y="1359360"/>
              <a:ext cx="1034640" cy="965520"/>
              <a:chOff x="2387520" y="1359360"/>
              <a:chExt cx="1034640" cy="965520"/>
            </a:xfrm>
          </p:grpSpPr>
          <p:sp>
            <p:nvSpPr>
              <p:cNvPr id="1131" name=""/>
              <p:cNvSpPr/>
              <p:nvPr/>
            </p:nvSpPr>
            <p:spPr>
              <a:xfrm>
                <a:off x="2546640" y="1359360"/>
                <a:ext cx="875520" cy="965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387520" y="1359360"/>
                <a:ext cx="875520" cy="965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2383200" y="1797480"/>
              <a:ext cx="239040" cy="282240"/>
              <a:chOff x="2383200" y="1797480"/>
              <a:chExt cx="239040" cy="282240"/>
            </a:xfrm>
          </p:grpSpPr>
          <p:sp>
            <p:nvSpPr>
              <p:cNvPr id="1134" name=""/>
              <p:cNvSpPr/>
              <p:nvPr/>
            </p:nvSpPr>
            <p:spPr>
              <a:xfrm rot="20700000">
                <a:off x="2411280" y="1816920"/>
                <a:ext cx="182160" cy="243360"/>
              </a:xfrm>
              <a:prstGeom prst="ellipse">
                <a:avLst/>
              </a:prstGeom>
              <a:gradFill rotWithShape="0">
                <a:gsLst>
                  <a:gs pos="0">
                    <a:srgbClr val="feddb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20700000">
                <a:off x="2440800" y="1843560"/>
                <a:ext cx="147960" cy="182160"/>
              </a:xfrm>
              <a:prstGeom prst="ellipse">
                <a:avLst/>
              </a:prstGeom>
              <a:gradFill rotWithShape="0">
                <a:gsLst>
                  <a:gs pos="0">
                    <a:srgbClr val="a18160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3186720" y="1797480"/>
              <a:ext cx="239400" cy="282240"/>
              <a:chOff x="3186720" y="1797480"/>
              <a:chExt cx="239400" cy="282240"/>
            </a:xfrm>
          </p:grpSpPr>
          <p:sp>
            <p:nvSpPr>
              <p:cNvPr id="1137" name=""/>
              <p:cNvSpPr/>
              <p:nvPr/>
            </p:nvSpPr>
            <p:spPr>
              <a:xfrm flipH="1" rot="900000">
                <a:off x="3214440" y="1816920"/>
                <a:ext cx="182520" cy="243360"/>
              </a:xfrm>
              <a:prstGeom prst="ellipse">
                <a:avLst/>
              </a:prstGeom>
              <a:gradFill rotWithShape="0">
                <a:gsLst>
                  <a:gs pos="0">
                    <a:srgbClr val="feddb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 rot="900000">
                <a:off x="3219480" y="1843200"/>
                <a:ext cx="148320" cy="182160"/>
              </a:xfrm>
              <a:prstGeom prst="ellipse">
                <a:avLst/>
              </a:prstGeom>
              <a:gradFill rotWithShape="0">
                <a:gsLst>
                  <a:gs pos="0">
                    <a:srgbClr val="a18160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9" name=""/>
            <p:cNvSpPr/>
            <p:nvPr/>
          </p:nvSpPr>
          <p:spPr>
            <a:xfrm>
              <a:off x="2489400" y="1451520"/>
              <a:ext cx="820800" cy="873720"/>
            </a:xfrm>
            <a:prstGeom prst="ellipse">
              <a:avLst/>
            </a:prstGeom>
            <a:gradFill rotWithShape="0">
              <a:gsLst>
                <a:gs pos="0">
                  <a:srgbClr val="feddb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50240" y="1602720"/>
              <a:ext cx="328320" cy="30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915280" y="1602720"/>
              <a:ext cx="329040" cy="30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643120" y="1634040"/>
              <a:ext cx="150480" cy="151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008160" y="1634040"/>
              <a:ext cx="150480" cy="151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18900000">
              <a:off x="2914920" y="1480680"/>
              <a:ext cx="61200" cy="15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25280" y="1909080"/>
              <a:ext cx="151200" cy="138960"/>
            </a:xfrm>
            <a:prstGeom prst="ellipse">
              <a:avLst/>
            </a:prstGeom>
            <a:gradFill rotWithShape="0">
              <a:gsLst>
                <a:gs pos="0">
                  <a:srgbClr val="feddb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5400000">
              <a:off x="2855880" y="2053800"/>
              <a:ext cx="89640" cy="21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694" y="3191"/>
                    <a:pt x="17788" y="5080"/>
                    <a:pt x="17788" y="10800"/>
                  </a:cubicBezTo>
                  <a:cubicBezTo>
                    <a:pt x="17788" y="16520"/>
                    <a:pt x="19694" y="184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2521800" y="1322640"/>
              <a:ext cx="765000" cy="347400"/>
              <a:chOff x="2521800" y="1322640"/>
              <a:chExt cx="765000" cy="347400"/>
            </a:xfrm>
          </p:grpSpPr>
          <p:sp>
            <p:nvSpPr>
              <p:cNvPr id="1148" name=""/>
              <p:cNvSpPr/>
              <p:nvPr/>
            </p:nvSpPr>
            <p:spPr>
              <a:xfrm rot="19800000">
                <a:off x="2525760" y="1426680"/>
                <a:ext cx="453960" cy="138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1800000">
                <a:off x="2827800" y="1426680"/>
                <a:ext cx="454680" cy="138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"/>
          <p:cNvGrpSpPr/>
          <p:nvPr/>
        </p:nvGrpSpPr>
        <p:grpSpPr>
          <a:xfrm>
            <a:off x="4203720" y="770040"/>
            <a:ext cx="1482480" cy="1554120"/>
            <a:chOff x="4203720" y="770040"/>
            <a:chExt cx="1482480" cy="1554120"/>
          </a:xfrm>
        </p:grpSpPr>
        <p:sp>
          <p:nvSpPr>
            <p:cNvPr id="1151" name=""/>
            <p:cNvSpPr txBox="1"/>
            <p:nvPr/>
          </p:nvSpPr>
          <p:spPr>
            <a:xfrm rot="1800000">
              <a:off x="5130360" y="835200"/>
              <a:ext cx="428400" cy="62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  <p:grpSp>
          <p:nvGrpSpPr>
            <p:cNvPr id="1152" name=""/>
            <p:cNvGrpSpPr/>
            <p:nvPr/>
          </p:nvGrpSpPr>
          <p:grpSpPr>
            <a:xfrm>
              <a:off x="4203720" y="1319400"/>
              <a:ext cx="1090440" cy="1004760"/>
              <a:chOff x="4203720" y="1319400"/>
              <a:chExt cx="1090440" cy="1004760"/>
            </a:xfrm>
          </p:grpSpPr>
          <p:sp>
            <p:nvSpPr>
              <p:cNvPr id="1153" name=""/>
              <p:cNvSpPr/>
              <p:nvPr/>
            </p:nvSpPr>
            <p:spPr>
              <a:xfrm>
                <a:off x="4324320" y="1319400"/>
                <a:ext cx="881280" cy="8838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4" name=""/>
              <p:cNvGrpSpPr/>
              <p:nvPr/>
            </p:nvGrpSpPr>
            <p:grpSpPr>
              <a:xfrm>
                <a:off x="4203720" y="1757520"/>
                <a:ext cx="239040" cy="282240"/>
                <a:chOff x="4203720" y="1757520"/>
                <a:chExt cx="239040" cy="282240"/>
              </a:xfrm>
            </p:grpSpPr>
            <p:sp>
              <p:nvSpPr>
                <p:cNvPr id="1155" name=""/>
                <p:cNvSpPr/>
                <p:nvPr/>
              </p:nvSpPr>
              <p:spPr>
                <a:xfrm rot="20700000">
                  <a:off x="4231800" y="1776960"/>
                  <a:ext cx="182160" cy="24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20700000">
                  <a:off x="4261320" y="1803600"/>
                  <a:ext cx="147960" cy="18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816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5054760" y="1757520"/>
                <a:ext cx="239400" cy="282240"/>
                <a:chOff x="5054760" y="1757520"/>
                <a:chExt cx="239400" cy="28224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900000">
                  <a:off x="5082480" y="1776960"/>
                  <a:ext cx="182520" cy="24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900000">
                  <a:off x="5087520" y="1803240"/>
                  <a:ext cx="148320" cy="18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816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>
                <a:off x="4353480" y="1411920"/>
                <a:ext cx="820080" cy="912240"/>
              </a:xfrm>
              <a:prstGeom prst="ellipse">
                <a:avLst/>
              </a:prstGeom>
              <a:gradFill rotWithShape="0">
                <a:gsLst>
                  <a:gs pos="0">
                    <a:srgbClr val="feddb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18900000">
                <a:off x="4779720" y="1441080"/>
                <a:ext cx="60480" cy="15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5085" y="1537"/>
                      <a:pt x="8570" y="5080"/>
                      <a:pt x="8570" y="10800"/>
                    </a:cubicBezTo>
                    <a:cubicBezTo>
                      <a:pt x="8570" y="16520"/>
                      <a:pt x="15085" y="2006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689720" y="1838160"/>
                <a:ext cx="150480" cy="242640"/>
              </a:xfrm>
              <a:prstGeom prst="ellipse">
                <a:avLst/>
              </a:prstGeom>
              <a:gradFill rotWithShape="0">
                <a:gsLst>
                  <a:gs pos="0">
                    <a:srgbClr val="feddb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5400000">
                <a:off x="4719600" y="2050920"/>
                <a:ext cx="89640" cy="21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94" y="3191"/>
                      <a:pt x="17788" y="5080"/>
                      <a:pt x="17788" y="10800"/>
                    </a:cubicBezTo>
                    <a:cubicBezTo>
                      <a:pt x="17788" y="16520"/>
                      <a:pt x="19694" y="184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4" name=""/>
              <p:cNvGrpSpPr/>
              <p:nvPr/>
            </p:nvGrpSpPr>
            <p:grpSpPr>
              <a:xfrm>
                <a:off x="4506840" y="1594800"/>
                <a:ext cx="150120" cy="150120"/>
                <a:chOff x="4506840" y="1594800"/>
                <a:chExt cx="150120" cy="15012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4506840" y="1594800"/>
                  <a:ext cx="150120" cy="150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545720" y="1594800"/>
                  <a:ext cx="72360" cy="72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4855320" y="1594800"/>
                <a:ext cx="150120" cy="150120"/>
                <a:chOff x="4855320" y="1594800"/>
                <a:chExt cx="150120" cy="15012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4855320" y="1594800"/>
                  <a:ext cx="150120" cy="150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894200" y="1594800"/>
                  <a:ext cx="72360" cy="72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0" name=""/>
          <p:cNvGrpSpPr/>
          <p:nvPr/>
        </p:nvGrpSpPr>
        <p:grpSpPr>
          <a:xfrm>
            <a:off x="6032520" y="809640"/>
            <a:ext cx="1501200" cy="1515600"/>
            <a:chOff x="6032520" y="809640"/>
            <a:chExt cx="1501200" cy="1515600"/>
          </a:xfrm>
        </p:grpSpPr>
        <p:sp>
          <p:nvSpPr>
            <p:cNvPr id="1171" name=""/>
            <p:cNvSpPr/>
            <p:nvPr/>
          </p:nvSpPr>
          <p:spPr>
            <a:xfrm rot="18900000">
              <a:off x="6627960" y="1480680"/>
              <a:ext cx="60480" cy="15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 txBox="1"/>
            <p:nvPr/>
          </p:nvSpPr>
          <p:spPr>
            <a:xfrm rot="1800000">
              <a:off x="6978240" y="874800"/>
              <a:ext cx="428040" cy="62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6170760" y="1359360"/>
              <a:ext cx="894960" cy="895320"/>
              <a:chOff x="6170760" y="1359360"/>
              <a:chExt cx="894960" cy="895320"/>
            </a:xfrm>
          </p:grpSpPr>
          <p:sp>
            <p:nvSpPr>
              <p:cNvPr id="1174" name=""/>
              <p:cNvSpPr/>
              <p:nvPr/>
            </p:nvSpPr>
            <p:spPr>
              <a:xfrm>
                <a:off x="6308280" y="1359360"/>
                <a:ext cx="757440" cy="895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70760" y="1359360"/>
                <a:ext cx="757440" cy="895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6095880" y="1797480"/>
              <a:ext cx="239400" cy="282240"/>
              <a:chOff x="6095880" y="1797480"/>
              <a:chExt cx="239400" cy="282240"/>
            </a:xfrm>
          </p:grpSpPr>
          <p:sp>
            <p:nvSpPr>
              <p:cNvPr id="1177" name=""/>
              <p:cNvSpPr/>
              <p:nvPr/>
            </p:nvSpPr>
            <p:spPr>
              <a:xfrm rot="20700000">
                <a:off x="6123960" y="1816560"/>
                <a:ext cx="182520" cy="243360"/>
              </a:xfrm>
              <a:prstGeom prst="ellipse">
                <a:avLst/>
              </a:prstGeom>
              <a:gradFill rotWithShape="0">
                <a:gsLst>
                  <a:gs pos="0">
                    <a:srgbClr val="feddb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20700000">
                <a:off x="6153480" y="1843560"/>
                <a:ext cx="148320" cy="182160"/>
              </a:xfrm>
              <a:prstGeom prst="ellipse">
                <a:avLst/>
              </a:prstGeom>
              <a:gradFill rotWithShape="0">
                <a:gsLst>
                  <a:gs pos="0">
                    <a:srgbClr val="a18160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6898680" y="1797480"/>
              <a:ext cx="239400" cy="282240"/>
              <a:chOff x="6898680" y="1797480"/>
              <a:chExt cx="239400" cy="282240"/>
            </a:xfrm>
          </p:grpSpPr>
          <p:sp>
            <p:nvSpPr>
              <p:cNvPr id="1180" name=""/>
              <p:cNvSpPr/>
              <p:nvPr/>
            </p:nvSpPr>
            <p:spPr>
              <a:xfrm flipH="1" rot="900000">
                <a:off x="6926400" y="1816920"/>
                <a:ext cx="182520" cy="243360"/>
              </a:xfrm>
              <a:prstGeom prst="ellipse">
                <a:avLst/>
              </a:prstGeom>
              <a:gradFill rotWithShape="0">
                <a:gsLst>
                  <a:gs pos="0">
                    <a:srgbClr val="feddb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 rot="900000">
                <a:off x="6931440" y="1843200"/>
                <a:ext cx="148320" cy="182160"/>
              </a:xfrm>
              <a:prstGeom prst="ellipse">
                <a:avLst/>
              </a:prstGeom>
              <a:gradFill rotWithShape="0">
                <a:gsLst>
                  <a:gs pos="0">
                    <a:srgbClr val="a18160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"/>
            <p:cNvSpPr/>
            <p:nvPr/>
          </p:nvSpPr>
          <p:spPr>
            <a:xfrm>
              <a:off x="6202440" y="1451520"/>
              <a:ext cx="819720" cy="873720"/>
            </a:xfrm>
            <a:prstGeom prst="ellipse">
              <a:avLst/>
            </a:prstGeom>
            <a:gradFill rotWithShape="0">
              <a:gsLst>
                <a:gs pos="0">
                  <a:srgbClr val="feddb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18900000">
              <a:off x="6627960" y="1480680"/>
              <a:ext cx="60480" cy="15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538320" y="1909080"/>
              <a:ext cx="150480" cy="206640"/>
            </a:xfrm>
            <a:prstGeom prst="ellipse">
              <a:avLst/>
            </a:prstGeom>
            <a:gradFill rotWithShape="0">
              <a:gsLst>
                <a:gs pos="0">
                  <a:srgbClr val="feddb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5400000">
              <a:off x="6568200" y="2053800"/>
              <a:ext cx="89640" cy="21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694" y="3191"/>
                    <a:pt x="17788" y="5080"/>
                    <a:pt x="17788" y="10800"/>
                  </a:cubicBezTo>
                  <a:cubicBezTo>
                    <a:pt x="17788" y="16520"/>
                    <a:pt x="19694" y="184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6" name=""/>
            <p:cNvGrpSpPr/>
            <p:nvPr/>
          </p:nvGrpSpPr>
          <p:grpSpPr>
            <a:xfrm>
              <a:off x="6234480" y="1322640"/>
              <a:ext cx="765000" cy="347400"/>
              <a:chOff x="6234480" y="1322640"/>
              <a:chExt cx="765000" cy="347400"/>
            </a:xfrm>
          </p:grpSpPr>
          <p:sp>
            <p:nvSpPr>
              <p:cNvPr id="1187" name=""/>
              <p:cNvSpPr/>
              <p:nvPr/>
            </p:nvSpPr>
            <p:spPr>
              <a:xfrm rot="19800000">
                <a:off x="6238440" y="1426680"/>
                <a:ext cx="453960" cy="138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800000">
                <a:off x="6540480" y="1426680"/>
                <a:ext cx="454680" cy="138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9" name=""/>
            <p:cNvSpPr/>
            <p:nvPr/>
          </p:nvSpPr>
          <p:spPr>
            <a:xfrm>
              <a:off x="6032520" y="1427040"/>
              <a:ext cx="483840" cy="206640"/>
            </a:xfrm>
            <a:custGeom>
              <a:avLst/>
              <a:gdLst/>
              <a:ahLst/>
              <a:rect l="l" t="t" r="r" b="b"/>
              <a:pathLst>
                <a:path w="170" h="85">
                  <a:moveTo>
                    <a:pt x="170" y="0"/>
                  </a:moveTo>
                  <a:lnTo>
                    <a:pt x="28" y="0"/>
                  </a:lnTo>
                  <a:lnTo>
                    <a:pt x="57" y="28"/>
                  </a:lnTo>
                  <a:lnTo>
                    <a:pt x="0" y="56"/>
                  </a:lnTo>
                  <a:lnTo>
                    <a:pt x="57" y="56"/>
                  </a:lnTo>
                  <a:lnTo>
                    <a:pt x="28" y="85"/>
                  </a:lnTo>
                  <a:lnTo>
                    <a:pt x="142" y="5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"/>
            <p:cNvGrpSpPr/>
            <p:nvPr/>
          </p:nvGrpSpPr>
          <p:grpSpPr>
            <a:xfrm>
              <a:off x="6238800" y="1634040"/>
              <a:ext cx="758880" cy="344880"/>
              <a:chOff x="6238800" y="1634040"/>
              <a:chExt cx="758880" cy="344880"/>
            </a:xfrm>
          </p:grpSpPr>
          <p:sp>
            <p:nvSpPr>
              <p:cNvPr id="1191" name=""/>
              <p:cNvSpPr/>
              <p:nvPr/>
            </p:nvSpPr>
            <p:spPr>
              <a:xfrm>
                <a:off x="6238800" y="1634040"/>
                <a:ext cx="379440" cy="3448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8240" y="1634040"/>
                <a:ext cx="379440" cy="3448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6238800" y="1634040"/>
                <a:ext cx="758160" cy="344520"/>
                <a:chOff x="6238800" y="1634040"/>
                <a:chExt cx="758160" cy="3445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6238800" y="1634040"/>
                  <a:ext cx="379080" cy="344520"/>
                </a:xfrm>
                <a:prstGeom prst="donut">
                  <a:avLst>
                    <a:gd name="adj" fmla="val 10564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6617880" y="1634040"/>
                  <a:ext cx="379080" cy="344520"/>
                </a:xfrm>
                <a:prstGeom prst="donut">
                  <a:avLst>
                    <a:gd name="adj" fmla="val 10564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6" name=""/>
          <p:cNvGrpSpPr/>
          <p:nvPr/>
        </p:nvGrpSpPr>
        <p:grpSpPr>
          <a:xfrm>
            <a:off x="393120" y="5027040"/>
            <a:ext cx="1629360" cy="1110960"/>
            <a:chOff x="393120" y="5027040"/>
            <a:chExt cx="1629360" cy="1110960"/>
          </a:xfrm>
        </p:grpSpPr>
        <p:grpSp>
          <p:nvGrpSpPr>
            <p:cNvPr id="1197" name=""/>
            <p:cNvGrpSpPr/>
            <p:nvPr/>
          </p:nvGrpSpPr>
          <p:grpSpPr>
            <a:xfrm>
              <a:off x="1106280" y="5105880"/>
              <a:ext cx="402480" cy="402840"/>
              <a:chOff x="1106280" y="5105880"/>
              <a:chExt cx="402480" cy="402840"/>
            </a:xfrm>
          </p:grpSpPr>
          <p:sp>
            <p:nvSpPr>
              <p:cNvPr id="1198" name=""/>
              <p:cNvSpPr/>
              <p:nvPr/>
            </p:nvSpPr>
            <p:spPr>
              <a:xfrm rot="2700000">
                <a:off x="1164600" y="5165280"/>
                <a:ext cx="285840" cy="28368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2700000">
                <a:off x="1182600" y="5262120"/>
                <a:ext cx="171360" cy="171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393120" y="5105880"/>
              <a:ext cx="402120" cy="402120"/>
              <a:chOff x="393120" y="5105880"/>
              <a:chExt cx="402120" cy="402120"/>
            </a:xfrm>
          </p:grpSpPr>
          <p:sp>
            <p:nvSpPr>
              <p:cNvPr id="1201" name=""/>
              <p:cNvSpPr/>
              <p:nvPr/>
            </p:nvSpPr>
            <p:spPr>
              <a:xfrm flipH="1" rot="18900000">
                <a:off x="450720" y="5165280"/>
                <a:ext cx="285480" cy="28296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 rot="18900000">
                <a:off x="546840" y="5262480"/>
                <a:ext cx="171720" cy="1706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3" name=""/>
            <p:cNvSpPr/>
            <p:nvPr/>
          </p:nvSpPr>
          <p:spPr>
            <a:xfrm>
              <a:off x="585720" y="5393160"/>
              <a:ext cx="33876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962280" y="5393160"/>
              <a:ext cx="33876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8900000">
              <a:off x="962280" y="5267160"/>
              <a:ext cx="6264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360" y="5236920"/>
              <a:ext cx="854280" cy="901080"/>
            </a:xfrm>
            <a:prstGeom prst="ellipse">
              <a:avLst/>
            </a:pr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5720" y="5393160"/>
              <a:ext cx="338760" cy="31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962280" y="5393160"/>
              <a:ext cx="338760" cy="31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80760" y="5425560"/>
              <a:ext cx="155880" cy="155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057680" y="5425560"/>
              <a:ext cx="155160" cy="155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18900000">
              <a:off x="962280" y="5267160"/>
              <a:ext cx="6264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69400" y="5708880"/>
              <a:ext cx="155160" cy="143280"/>
            </a:xfrm>
            <a:prstGeom prst="ellipse">
              <a:avLst/>
            </a:prstGeom>
            <a:gradFill rotWithShape="0">
              <a:gsLst>
                <a:gs pos="0">
                  <a:srgbClr val="5c5c5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5400000">
              <a:off x="900720" y="5858640"/>
              <a:ext cx="92520" cy="22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694" y="3191"/>
                    <a:pt x="17788" y="5080"/>
                    <a:pt x="17788" y="10800"/>
                  </a:cubicBezTo>
                  <a:cubicBezTo>
                    <a:pt x="17788" y="16520"/>
                    <a:pt x="19694" y="184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594360" y="5789160"/>
              <a:ext cx="145440" cy="176400"/>
              <a:chOff x="594360" y="5789160"/>
              <a:chExt cx="145440" cy="176400"/>
            </a:xfrm>
          </p:grpSpPr>
          <p:sp>
            <p:nvSpPr>
              <p:cNvPr id="1215" name=""/>
              <p:cNvSpPr/>
              <p:nvPr/>
            </p:nvSpPr>
            <p:spPr>
              <a:xfrm rot="900000">
                <a:off x="595440" y="5807160"/>
                <a:ext cx="143280" cy="27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95440" y="5862600"/>
                <a:ext cx="143280" cy="27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20700000">
                <a:off x="595440" y="5919840"/>
                <a:ext cx="143280" cy="27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1164600" y="5789160"/>
              <a:ext cx="145440" cy="176400"/>
              <a:chOff x="1164600" y="5789160"/>
              <a:chExt cx="145440" cy="176400"/>
            </a:xfrm>
          </p:grpSpPr>
          <p:sp>
            <p:nvSpPr>
              <p:cNvPr id="1219" name=""/>
              <p:cNvSpPr/>
              <p:nvPr/>
            </p:nvSpPr>
            <p:spPr>
              <a:xfrm flipH="1" rot="20700000">
                <a:off x="1165680" y="5807160"/>
                <a:ext cx="143280" cy="27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>
                <a:off x="1165680" y="5862600"/>
                <a:ext cx="143280" cy="27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 rot="900000">
                <a:off x="1165680" y="5919840"/>
                <a:ext cx="143280" cy="27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2" name=""/>
            <p:cNvSpPr txBox="1"/>
            <p:nvPr/>
          </p:nvSpPr>
          <p:spPr>
            <a:xfrm rot="1800000">
              <a:off x="1449360" y="5094360"/>
              <a:ext cx="441720" cy="64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7894800" y="977760"/>
            <a:ext cx="1549800" cy="1345320"/>
            <a:chOff x="7894800" y="977760"/>
            <a:chExt cx="1549800" cy="1345320"/>
          </a:xfrm>
        </p:grpSpPr>
        <p:grpSp>
          <p:nvGrpSpPr>
            <p:cNvPr id="1224" name=""/>
            <p:cNvGrpSpPr/>
            <p:nvPr/>
          </p:nvGrpSpPr>
          <p:grpSpPr>
            <a:xfrm>
              <a:off x="7894800" y="977760"/>
              <a:ext cx="1549800" cy="1345320"/>
              <a:chOff x="7894800" y="977760"/>
              <a:chExt cx="1549800" cy="1345320"/>
            </a:xfrm>
          </p:grpSpPr>
          <p:grpSp>
            <p:nvGrpSpPr>
              <p:cNvPr id="1225" name=""/>
              <p:cNvGrpSpPr/>
              <p:nvPr/>
            </p:nvGrpSpPr>
            <p:grpSpPr>
              <a:xfrm>
                <a:off x="7894800" y="1318320"/>
                <a:ext cx="1091160" cy="1004760"/>
                <a:chOff x="7894800" y="1318320"/>
                <a:chExt cx="1091160" cy="1004760"/>
              </a:xfrm>
            </p:grpSpPr>
            <p:sp>
              <p:nvSpPr>
                <p:cNvPr id="1226" name=""/>
                <p:cNvSpPr/>
                <p:nvPr/>
              </p:nvSpPr>
              <p:spPr>
                <a:xfrm rot="20700000">
                  <a:off x="8013240" y="1369800"/>
                  <a:ext cx="303840" cy="910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rot="20700000">
                  <a:off x="7953120" y="1469880"/>
                  <a:ext cx="243720" cy="910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rot="20700000">
                  <a:off x="7923240" y="1562040"/>
                  <a:ext cx="243720" cy="910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014320" y="1318320"/>
                  <a:ext cx="883080" cy="883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0" name=""/>
                <p:cNvGrpSpPr/>
                <p:nvPr/>
              </p:nvGrpSpPr>
              <p:grpSpPr>
                <a:xfrm>
                  <a:off x="7894800" y="1755720"/>
                  <a:ext cx="239400" cy="282600"/>
                  <a:chOff x="7894800" y="1755720"/>
                  <a:chExt cx="239400" cy="28260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 rot="20700000">
                    <a:off x="7922880" y="1774800"/>
                    <a:ext cx="18252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ddbd"/>
                      </a:gs>
                      <a:gs pos="100000">
                        <a:srgbClr val="ffcc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rot="20700000">
                    <a:off x="7952400" y="1801800"/>
                    <a:ext cx="14832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18160"/>
                      </a:gs>
                      <a:gs pos="100000">
                        <a:srgbClr val="ffcc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" name=""/>
                <p:cNvGrpSpPr/>
                <p:nvPr/>
              </p:nvGrpSpPr>
              <p:grpSpPr>
                <a:xfrm>
                  <a:off x="8746560" y="1755720"/>
                  <a:ext cx="239400" cy="282600"/>
                  <a:chOff x="8746560" y="1755720"/>
                  <a:chExt cx="239400" cy="282600"/>
                </a:xfrm>
              </p:grpSpPr>
              <p:sp>
                <p:nvSpPr>
                  <p:cNvPr id="1234" name=""/>
                  <p:cNvSpPr/>
                  <p:nvPr/>
                </p:nvSpPr>
                <p:spPr>
                  <a:xfrm flipH="1" rot="900000">
                    <a:off x="8774280" y="1775160"/>
                    <a:ext cx="18252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ddbd"/>
                      </a:gs>
                      <a:gs pos="100000">
                        <a:srgbClr val="ffcc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 flipH="1" rot="900000">
                    <a:off x="8779320" y="1801440"/>
                    <a:ext cx="14832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18160"/>
                      </a:gs>
                      <a:gs pos="100000">
                        <a:srgbClr val="ffcc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"/>
                <p:cNvSpPr/>
                <p:nvPr/>
              </p:nvSpPr>
              <p:spPr>
                <a:xfrm>
                  <a:off x="8044560" y="1409400"/>
                  <a:ext cx="821880" cy="91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105760" y="1562040"/>
                  <a:ext cx="328680" cy="365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471160" y="1562040"/>
                  <a:ext cx="328680" cy="365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8196840" y="1592280"/>
                  <a:ext cx="152280" cy="152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8562600" y="1592280"/>
                  <a:ext cx="152280" cy="152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rot="18900000">
                  <a:off x="8471160" y="1439280"/>
                  <a:ext cx="60840" cy="15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5085" y="1537"/>
                        <a:pt x="8570" y="5080"/>
                        <a:pt x="8570" y="10800"/>
                      </a:cubicBezTo>
                      <a:cubicBezTo>
                        <a:pt x="8570" y="16520"/>
                        <a:pt x="15085" y="20063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8379720" y="1836360"/>
                  <a:ext cx="152280" cy="24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rot="5400000">
                  <a:off x="8409600" y="2049120"/>
                  <a:ext cx="91080" cy="21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694" y="3191"/>
                        <a:pt x="17788" y="5080"/>
                        <a:pt x="17788" y="10800"/>
                      </a:cubicBezTo>
                      <a:cubicBezTo>
                        <a:pt x="17788" y="16520"/>
                        <a:pt x="19694" y="184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4" name=""/>
              <p:cNvSpPr txBox="1"/>
              <p:nvPr/>
            </p:nvSpPr>
            <p:spPr>
              <a:xfrm rot="1800000">
                <a:off x="8889120" y="1042920"/>
                <a:ext cx="428040" cy="62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25560">
                      <a:solidFill>
                        <a:srgbClr val="800000"/>
                      </a:solidFill>
                      <a:miter/>
                    </a:ln>
                    <a:solidFill>
                      <a:srgbClr val="ff0000"/>
                    </a:solidFill>
                    <a:latin typeface="ＭＳ Ｐゴシック"/>
                  </a:rPr>
                  <a:t>？</a:t>
                </a:r>
                <a:endParaRPr b="1" lang="en-US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  <a:ea typeface="ＭＳ Ｐゴシック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>
              <a:off x="8239320" y="1634400"/>
              <a:ext cx="68400" cy="684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600040" y="1641600"/>
              <a:ext cx="67680" cy="684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237160" y="1600200"/>
              <a:ext cx="67680" cy="68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600040" y="1600200"/>
              <a:ext cx="67680" cy="68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6122880" y="4734000"/>
            <a:ext cx="1478160" cy="1515600"/>
            <a:chOff x="6122880" y="4734000"/>
            <a:chExt cx="1478160" cy="1515600"/>
          </a:xfrm>
        </p:grpSpPr>
        <p:grpSp>
          <p:nvGrpSpPr>
            <p:cNvPr id="1250" name=""/>
            <p:cNvGrpSpPr/>
            <p:nvPr/>
          </p:nvGrpSpPr>
          <p:grpSpPr>
            <a:xfrm>
              <a:off x="6289920" y="4734000"/>
              <a:ext cx="598320" cy="869040"/>
              <a:chOff x="6289920" y="4734000"/>
              <a:chExt cx="598320" cy="869040"/>
            </a:xfrm>
          </p:grpSpPr>
          <p:sp>
            <p:nvSpPr>
              <p:cNvPr id="1251" name=""/>
              <p:cNvSpPr/>
              <p:nvPr/>
            </p:nvSpPr>
            <p:spPr>
              <a:xfrm>
                <a:off x="6622200" y="4734000"/>
                <a:ext cx="266040" cy="8690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687720" y="4934160"/>
                <a:ext cx="138600" cy="666720"/>
              </a:xfrm>
              <a:prstGeom prst="ellips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89920" y="4734000"/>
                <a:ext cx="266040" cy="8690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355440" y="4934160"/>
                <a:ext cx="139320" cy="666720"/>
              </a:xfrm>
              <a:prstGeom prst="ellips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5" name=""/>
            <p:cNvSpPr/>
            <p:nvPr/>
          </p:nvSpPr>
          <p:spPr>
            <a:xfrm>
              <a:off x="6155280" y="5403600"/>
              <a:ext cx="867600" cy="84600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6" name=""/>
            <p:cNvGrpSpPr/>
            <p:nvPr/>
          </p:nvGrpSpPr>
          <p:grpSpPr>
            <a:xfrm>
              <a:off x="6252120" y="5432400"/>
              <a:ext cx="671760" cy="469800"/>
              <a:chOff x="6252120" y="5432400"/>
              <a:chExt cx="671760" cy="469800"/>
            </a:xfrm>
          </p:grpSpPr>
          <p:sp>
            <p:nvSpPr>
              <p:cNvPr id="1257" name=""/>
              <p:cNvSpPr/>
              <p:nvPr/>
            </p:nvSpPr>
            <p:spPr>
              <a:xfrm>
                <a:off x="6252120" y="5549400"/>
                <a:ext cx="318240" cy="35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606000" y="5549400"/>
                <a:ext cx="317880" cy="35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18900000">
                <a:off x="6605640" y="5431320"/>
                <a:ext cx="58680" cy="146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5085" y="1537"/>
                      <a:pt x="8570" y="5080"/>
                      <a:pt x="8570" y="10800"/>
                    </a:cubicBezTo>
                    <a:cubicBezTo>
                      <a:pt x="8570" y="16520"/>
                      <a:pt x="15085" y="2006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"/>
              <p:cNvGrpSpPr/>
              <p:nvPr/>
            </p:nvGrpSpPr>
            <p:grpSpPr>
              <a:xfrm>
                <a:off x="6252120" y="5549400"/>
                <a:ext cx="671400" cy="295920"/>
                <a:chOff x="6252120" y="5549400"/>
                <a:chExt cx="671400" cy="29592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6252120" y="5549400"/>
                  <a:ext cx="318240" cy="295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6605640" y="5549400"/>
                  <a:ext cx="317880" cy="295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6341760" y="5579640"/>
                  <a:ext cx="145800" cy="1454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694920" y="5579640"/>
                  <a:ext cx="146160" cy="1454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5" name=""/>
              <p:cNvSpPr/>
              <p:nvPr/>
            </p:nvSpPr>
            <p:spPr>
              <a:xfrm rot="18900000">
                <a:off x="6605640" y="5431320"/>
                <a:ext cx="58680" cy="146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5085" y="1537"/>
                      <a:pt x="8570" y="5080"/>
                      <a:pt x="8570" y="10800"/>
                    </a:cubicBezTo>
                    <a:cubicBezTo>
                      <a:pt x="8570" y="16520"/>
                      <a:pt x="15085" y="2006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>
              <a:off x="6516360" y="5846760"/>
              <a:ext cx="146520" cy="133920"/>
            </a:xfrm>
            <a:prstGeom prst="ellipse">
              <a:avLst/>
            </a:prstGeom>
            <a:gradFill rotWithShape="0">
              <a:gsLst>
                <a:gs pos="0">
                  <a:srgbClr val="5c5c5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5400000">
              <a:off x="6545880" y="5986800"/>
              <a:ext cx="87120" cy="20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694" y="3191"/>
                    <a:pt x="17788" y="5080"/>
                    <a:pt x="17788" y="10800"/>
                  </a:cubicBezTo>
                  <a:cubicBezTo>
                    <a:pt x="17788" y="16520"/>
                    <a:pt x="19694" y="184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6122880" y="5856480"/>
              <a:ext cx="934920" cy="182880"/>
              <a:chOff x="6122880" y="5856480"/>
              <a:chExt cx="934920" cy="182880"/>
            </a:xfrm>
          </p:grpSpPr>
          <p:grpSp>
            <p:nvGrpSpPr>
              <p:cNvPr id="1269" name=""/>
              <p:cNvGrpSpPr/>
              <p:nvPr/>
            </p:nvGrpSpPr>
            <p:grpSpPr>
              <a:xfrm>
                <a:off x="6122880" y="5856480"/>
                <a:ext cx="200160" cy="182520"/>
                <a:chOff x="6122880" y="5856480"/>
                <a:chExt cx="200160" cy="182520"/>
              </a:xfrm>
            </p:grpSpPr>
            <p:sp>
              <p:nvSpPr>
                <p:cNvPr id="1270" name=""/>
                <p:cNvSpPr/>
                <p:nvPr/>
              </p:nvSpPr>
              <p:spPr>
                <a:xfrm rot="900000">
                  <a:off x="6122880" y="5881680"/>
                  <a:ext cx="200160" cy="259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122880" y="5933880"/>
                  <a:ext cx="200160" cy="259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rot="20700000">
                  <a:off x="6122520" y="5987160"/>
                  <a:ext cx="200160" cy="259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3" name=""/>
              <p:cNvGrpSpPr/>
              <p:nvPr/>
            </p:nvGrpSpPr>
            <p:grpSpPr>
              <a:xfrm>
                <a:off x="6858000" y="5856840"/>
                <a:ext cx="199800" cy="182520"/>
                <a:chOff x="6858000" y="5856840"/>
                <a:chExt cx="199800" cy="182520"/>
              </a:xfrm>
            </p:grpSpPr>
            <p:sp>
              <p:nvSpPr>
                <p:cNvPr id="1274" name=""/>
                <p:cNvSpPr/>
                <p:nvPr/>
              </p:nvSpPr>
              <p:spPr>
                <a:xfrm flipH="1" rot="20700000">
                  <a:off x="6857640" y="5882040"/>
                  <a:ext cx="199800" cy="259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H="1">
                  <a:off x="6857640" y="5933880"/>
                  <a:ext cx="199800" cy="259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flipH="1" rot="900000">
                  <a:off x="6857280" y="5987160"/>
                  <a:ext cx="199800" cy="2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"/>
            <p:cNvSpPr txBox="1"/>
            <p:nvPr/>
          </p:nvSpPr>
          <p:spPr>
            <a:xfrm rot="1800000">
              <a:off x="7062840" y="5280120"/>
              <a:ext cx="414720" cy="60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277720" y="5065920"/>
            <a:ext cx="1684440" cy="1070640"/>
            <a:chOff x="2277720" y="5065920"/>
            <a:chExt cx="1684440" cy="1070640"/>
          </a:xfrm>
        </p:grpSpPr>
        <p:grpSp>
          <p:nvGrpSpPr>
            <p:cNvPr id="1279" name=""/>
            <p:cNvGrpSpPr/>
            <p:nvPr/>
          </p:nvGrpSpPr>
          <p:grpSpPr>
            <a:xfrm>
              <a:off x="3030840" y="5151240"/>
              <a:ext cx="382320" cy="370440"/>
              <a:chOff x="3030840" y="5151240"/>
              <a:chExt cx="382320" cy="370440"/>
            </a:xfrm>
          </p:grpSpPr>
          <p:sp>
            <p:nvSpPr>
              <p:cNvPr id="1280" name=""/>
              <p:cNvSpPr/>
              <p:nvPr/>
            </p:nvSpPr>
            <p:spPr>
              <a:xfrm rot="9000000">
                <a:off x="3075840" y="5206680"/>
                <a:ext cx="291960" cy="25884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9000000">
                <a:off x="3085560" y="5250600"/>
                <a:ext cx="237600" cy="1936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2277720" y="5158800"/>
              <a:ext cx="389520" cy="389880"/>
              <a:chOff x="2277720" y="5158800"/>
              <a:chExt cx="389520" cy="389880"/>
            </a:xfrm>
          </p:grpSpPr>
          <p:sp>
            <p:nvSpPr>
              <p:cNvPr id="1283" name=""/>
              <p:cNvSpPr/>
              <p:nvPr/>
            </p:nvSpPr>
            <p:spPr>
              <a:xfrm rot="2700000">
                <a:off x="2325960" y="5223960"/>
                <a:ext cx="292320" cy="25884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2700000">
                <a:off x="2368800" y="5270400"/>
                <a:ext cx="237600" cy="1936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5" name=""/>
            <p:cNvSpPr/>
            <p:nvPr/>
          </p:nvSpPr>
          <p:spPr>
            <a:xfrm>
              <a:off x="2415240" y="5207400"/>
              <a:ext cx="880560" cy="929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63200" y="5720040"/>
              <a:ext cx="587520" cy="416520"/>
            </a:xfrm>
            <a:prstGeom prst="ellipse">
              <a:avLst/>
            </a:prstGeom>
            <a:gradFill rotWithShape="0">
              <a:gsLst>
                <a:gs pos="0">
                  <a:srgbClr val="feddb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480400" y="5368320"/>
              <a:ext cx="349200" cy="38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868840" y="5368320"/>
              <a:ext cx="349200" cy="38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18900000">
              <a:off x="2868480" y="5238360"/>
              <a:ext cx="64440" cy="160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80400" y="5368320"/>
              <a:ext cx="349200" cy="32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68840" y="5368320"/>
              <a:ext cx="349200" cy="32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578680" y="5401800"/>
              <a:ext cx="160560" cy="16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967480" y="5401800"/>
              <a:ext cx="160200" cy="16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18900000">
              <a:off x="2868480" y="5238360"/>
              <a:ext cx="64440" cy="160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73080" y="5694120"/>
              <a:ext cx="160200" cy="147600"/>
            </a:xfrm>
            <a:prstGeom prst="ellipse">
              <a:avLst/>
            </a:prstGeom>
            <a:gradFill rotWithShape="0">
              <a:gsLst>
                <a:gs pos="0">
                  <a:srgbClr val="5c5c5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5400000">
              <a:off x="2805480" y="5848200"/>
              <a:ext cx="95400" cy="227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694" y="3191"/>
                    <a:pt x="17788" y="5080"/>
                    <a:pt x="17788" y="10800"/>
                  </a:cubicBezTo>
                  <a:cubicBezTo>
                    <a:pt x="17788" y="16520"/>
                    <a:pt x="19694" y="184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 txBox="1"/>
            <p:nvPr/>
          </p:nvSpPr>
          <p:spPr>
            <a:xfrm rot="1800000">
              <a:off x="3371400" y="5135040"/>
              <a:ext cx="455400" cy="66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4077720" y="5024880"/>
            <a:ext cx="1685880" cy="1130760"/>
            <a:chOff x="4077720" y="5024880"/>
            <a:chExt cx="1685880" cy="1130760"/>
          </a:xfrm>
        </p:grpSpPr>
        <p:grpSp>
          <p:nvGrpSpPr>
            <p:cNvPr id="1299" name=""/>
            <p:cNvGrpSpPr/>
            <p:nvPr/>
          </p:nvGrpSpPr>
          <p:grpSpPr>
            <a:xfrm>
              <a:off x="4077720" y="5173200"/>
              <a:ext cx="1131480" cy="982440"/>
              <a:chOff x="4077720" y="5173200"/>
              <a:chExt cx="1131480" cy="982440"/>
            </a:xfrm>
          </p:grpSpPr>
          <p:grpSp>
            <p:nvGrpSpPr>
              <p:cNvPr id="1300" name=""/>
              <p:cNvGrpSpPr/>
              <p:nvPr/>
            </p:nvGrpSpPr>
            <p:grpSpPr>
              <a:xfrm>
                <a:off x="4077720" y="5173200"/>
                <a:ext cx="1131480" cy="396000"/>
                <a:chOff x="4077720" y="5173200"/>
                <a:chExt cx="1131480" cy="396000"/>
              </a:xfrm>
            </p:grpSpPr>
            <p:grpSp>
              <p:nvGrpSpPr>
                <p:cNvPr id="1301" name=""/>
                <p:cNvGrpSpPr/>
                <p:nvPr/>
              </p:nvGrpSpPr>
              <p:grpSpPr>
                <a:xfrm>
                  <a:off x="4828680" y="5173200"/>
                  <a:ext cx="380520" cy="368280"/>
                  <a:chOff x="4828680" y="5173200"/>
                  <a:chExt cx="380520" cy="368280"/>
                </a:xfrm>
              </p:grpSpPr>
              <p:sp>
                <p:nvSpPr>
                  <p:cNvPr id="1302" name=""/>
                  <p:cNvSpPr/>
                  <p:nvPr/>
                </p:nvSpPr>
                <p:spPr>
                  <a:xfrm rot="9000000">
                    <a:off x="4873320" y="5228280"/>
                    <a:ext cx="290880" cy="257400"/>
                  </a:xfrm>
                  <a:prstGeom prst="ellipse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 rot="9000000">
                    <a:off x="4883040" y="5270040"/>
                    <a:ext cx="234720" cy="1929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4" name=""/>
                <p:cNvSpPr/>
                <p:nvPr/>
              </p:nvSpPr>
              <p:spPr>
                <a:xfrm rot="2700000">
                  <a:off x="4125960" y="5245560"/>
                  <a:ext cx="291600" cy="258120"/>
                </a:xfrm>
                <a:prstGeom prst="ellipse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rot="2700000">
                  <a:off x="4166280" y="5290920"/>
                  <a:ext cx="234360" cy="1929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6" name=""/>
              <p:cNvSpPr/>
              <p:nvPr/>
            </p:nvSpPr>
            <p:spPr>
              <a:xfrm>
                <a:off x="4179240" y="5229000"/>
                <a:ext cx="949680" cy="9266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359600" y="5739840"/>
                <a:ext cx="586080" cy="415440"/>
              </a:xfrm>
              <a:prstGeom prst="ellipse">
                <a:avLst/>
              </a:prstGeom>
              <a:gradFill rotWithShape="0">
                <a:gsLst>
                  <a:gs pos="0">
                    <a:srgbClr val="feddb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4284720" y="5260680"/>
                <a:ext cx="735480" cy="515160"/>
                <a:chOff x="4284720" y="5260680"/>
                <a:chExt cx="735480" cy="5151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284720" y="5389200"/>
                  <a:ext cx="348480" cy="386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672080" y="5389200"/>
                  <a:ext cx="348120" cy="386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rot="18900000">
                  <a:off x="4672080" y="5259600"/>
                  <a:ext cx="64080" cy="16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5085" y="1537"/>
                        <a:pt x="8570" y="5080"/>
                        <a:pt x="8570" y="10800"/>
                      </a:cubicBezTo>
                      <a:cubicBezTo>
                        <a:pt x="8570" y="16520"/>
                        <a:pt x="15085" y="20063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2" name=""/>
                <p:cNvGrpSpPr/>
                <p:nvPr/>
              </p:nvGrpSpPr>
              <p:grpSpPr>
                <a:xfrm>
                  <a:off x="4284720" y="5389200"/>
                  <a:ext cx="734760" cy="324000"/>
                  <a:chOff x="4284720" y="5389200"/>
                  <a:chExt cx="734760" cy="32400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4284720" y="5389200"/>
                    <a:ext cx="348480" cy="324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4671720" y="5389200"/>
                    <a:ext cx="347760" cy="324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4382640" y="5422320"/>
                    <a:ext cx="159480" cy="15912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769280" y="5422320"/>
                    <a:ext cx="160200" cy="15912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7" name=""/>
                <p:cNvSpPr/>
                <p:nvPr/>
              </p:nvSpPr>
              <p:spPr>
                <a:xfrm rot="18900000">
                  <a:off x="4672080" y="5259600"/>
                  <a:ext cx="64080" cy="16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5085" y="1537"/>
                        <a:pt x="8570" y="5080"/>
                        <a:pt x="8570" y="10800"/>
                      </a:cubicBezTo>
                      <a:cubicBezTo>
                        <a:pt x="8570" y="16520"/>
                        <a:pt x="15085" y="20063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4574160" y="5714280"/>
                <a:ext cx="160200" cy="14724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5400000">
                <a:off x="4606200" y="5868000"/>
                <a:ext cx="95400" cy="22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94" y="3191"/>
                      <a:pt x="17788" y="5080"/>
                      <a:pt x="17788" y="10800"/>
                    </a:cubicBezTo>
                    <a:cubicBezTo>
                      <a:pt x="17788" y="16520"/>
                      <a:pt x="19694" y="184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0" name=""/>
              <p:cNvGrpSpPr/>
              <p:nvPr/>
            </p:nvGrpSpPr>
            <p:grpSpPr>
              <a:xfrm>
                <a:off x="4143240" y="5724720"/>
                <a:ext cx="1024920" cy="199800"/>
                <a:chOff x="4143240" y="5724720"/>
                <a:chExt cx="1024920" cy="199800"/>
              </a:xfrm>
            </p:grpSpPr>
            <p:grpSp>
              <p:nvGrpSpPr>
                <p:cNvPr id="1321" name=""/>
                <p:cNvGrpSpPr/>
                <p:nvPr/>
              </p:nvGrpSpPr>
              <p:grpSpPr>
                <a:xfrm>
                  <a:off x="4143240" y="5724720"/>
                  <a:ext cx="219600" cy="199800"/>
                  <a:chOff x="4143240" y="5724720"/>
                  <a:chExt cx="219600" cy="19980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 rot="900000">
                    <a:off x="4142880" y="5752440"/>
                    <a:ext cx="219600" cy="284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143240" y="5809680"/>
                    <a:ext cx="219600" cy="284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rot="20700000">
                    <a:off x="4142880" y="5868000"/>
                    <a:ext cx="219600" cy="284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" name=""/>
                <p:cNvGrpSpPr/>
                <p:nvPr/>
              </p:nvGrpSpPr>
              <p:grpSpPr>
                <a:xfrm>
                  <a:off x="4948920" y="5725080"/>
                  <a:ext cx="219240" cy="199440"/>
                  <a:chOff x="4948920" y="5725080"/>
                  <a:chExt cx="219240" cy="199440"/>
                </a:xfrm>
              </p:grpSpPr>
              <p:sp>
                <p:nvSpPr>
                  <p:cNvPr id="1326" name=""/>
                  <p:cNvSpPr/>
                  <p:nvPr/>
                </p:nvSpPr>
                <p:spPr>
                  <a:xfrm flipH="1" rot="20700000">
                    <a:off x="4949280" y="5752800"/>
                    <a:ext cx="218880" cy="288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 flipH="1">
                    <a:off x="4948920" y="5809680"/>
                    <a:ext cx="218880" cy="284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 flipH="1" rot="900000">
                    <a:off x="4948560" y="5868360"/>
                    <a:ext cx="218880" cy="284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29" name=""/>
            <p:cNvSpPr txBox="1"/>
            <p:nvPr/>
          </p:nvSpPr>
          <p:spPr>
            <a:xfrm rot="1800000">
              <a:off x="5174280" y="5094000"/>
              <a:ext cx="454320" cy="66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7967520" y="5120280"/>
            <a:ext cx="1438560" cy="1104840"/>
            <a:chOff x="7967520" y="5120280"/>
            <a:chExt cx="1438560" cy="1104840"/>
          </a:xfrm>
        </p:grpSpPr>
        <p:sp>
          <p:nvSpPr>
            <p:cNvPr id="1331" name=""/>
            <p:cNvSpPr txBox="1"/>
            <p:nvPr/>
          </p:nvSpPr>
          <p:spPr>
            <a:xfrm rot="1800000">
              <a:off x="9020880" y="5165280"/>
              <a:ext cx="297000" cy="43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7967520" y="5212440"/>
              <a:ext cx="1015920" cy="1012680"/>
              <a:chOff x="7967520" y="5212440"/>
              <a:chExt cx="1015920" cy="1012680"/>
            </a:xfrm>
          </p:grpSpPr>
          <p:sp>
            <p:nvSpPr>
              <p:cNvPr id="1333" name=""/>
              <p:cNvSpPr/>
              <p:nvPr/>
            </p:nvSpPr>
            <p:spPr>
              <a:xfrm>
                <a:off x="7967520" y="5212440"/>
                <a:ext cx="1015920" cy="1012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16200000">
                <a:off x="8438760" y="5620680"/>
                <a:ext cx="270720" cy="537840"/>
              </a:xfrm>
              <a:custGeom>
                <a:avLst/>
                <a:gdLst>
                  <a:gd name="textAreaLeft" fmla="*/ 77400 w 270720"/>
                  <a:gd name="textAreaRight" fmla="*/ 186840 w 270720"/>
                  <a:gd name="textAreaTop" fmla="*/ 80280 h 537840"/>
                  <a:gd name="textAreaBottom" fmla="*/ 457560 h 537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255" y="2675"/>
                      <a:pt x="14909" y="5080"/>
                      <a:pt x="14909" y="10800"/>
                    </a:cubicBezTo>
                    <a:cubicBezTo>
                      <a:pt x="14909" y="16520"/>
                      <a:pt x="18255" y="1892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8371800" y="5416200"/>
                <a:ext cx="133560" cy="204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8709840" y="5416200"/>
                <a:ext cx="133560" cy="204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7" name=""/>
          <p:cNvGrpSpPr/>
          <p:nvPr/>
        </p:nvGrpSpPr>
        <p:grpSpPr>
          <a:xfrm>
            <a:off x="542880" y="2901600"/>
            <a:ext cx="1515600" cy="1392120"/>
            <a:chOff x="542880" y="2901600"/>
            <a:chExt cx="1515600" cy="1392120"/>
          </a:xfrm>
        </p:grpSpPr>
        <p:grpSp>
          <p:nvGrpSpPr>
            <p:cNvPr id="1338" name=""/>
            <p:cNvGrpSpPr/>
            <p:nvPr/>
          </p:nvGrpSpPr>
          <p:grpSpPr>
            <a:xfrm>
              <a:off x="542880" y="3291120"/>
              <a:ext cx="1050480" cy="987840"/>
              <a:chOff x="542880" y="3291120"/>
              <a:chExt cx="1050480" cy="987840"/>
            </a:xfrm>
          </p:grpSpPr>
          <p:sp>
            <p:nvSpPr>
              <p:cNvPr id="1339" name=""/>
              <p:cNvSpPr/>
              <p:nvPr/>
            </p:nvSpPr>
            <p:spPr>
              <a:xfrm>
                <a:off x="542880" y="3291120"/>
                <a:ext cx="902160" cy="987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91920" y="3291120"/>
                <a:ext cx="901440" cy="987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580320" y="3754440"/>
              <a:ext cx="975240" cy="266400"/>
              <a:chOff x="580320" y="3754440"/>
              <a:chExt cx="975240" cy="266400"/>
            </a:xfrm>
          </p:grpSpPr>
          <p:grpSp>
            <p:nvGrpSpPr>
              <p:cNvPr id="1342" name=""/>
              <p:cNvGrpSpPr/>
              <p:nvPr/>
            </p:nvGrpSpPr>
            <p:grpSpPr>
              <a:xfrm>
                <a:off x="580320" y="3754440"/>
                <a:ext cx="217800" cy="266040"/>
                <a:chOff x="580320" y="3754440"/>
                <a:chExt cx="217800" cy="266040"/>
              </a:xfrm>
            </p:grpSpPr>
            <p:sp>
              <p:nvSpPr>
                <p:cNvPr id="1343" name=""/>
                <p:cNvSpPr/>
                <p:nvPr/>
              </p:nvSpPr>
              <p:spPr>
                <a:xfrm rot="20700000">
                  <a:off x="607320" y="3771720"/>
                  <a:ext cx="163440" cy="23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rot="20700000">
                  <a:off x="633600" y="3797280"/>
                  <a:ext cx="132840" cy="17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816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1337400" y="3754440"/>
                <a:ext cx="218160" cy="266400"/>
                <a:chOff x="1337400" y="3754440"/>
                <a:chExt cx="218160" cy="266400"/>
              </a:xfrm>
            </p:grpSpPr>
            <p:sp>
              <p:nvSpPr>
                <p:cNvPr id="1346" name=""/>
                <p:cNvSpPr/>
                <p:nvPr/>
              </p:nvSpPr>
              <p:spPr>
                <a:xfrm flipH="1" rot="900000">
                  <a:off x="1364400" y="3771360"/>
                  <a:ext cx="163800" cy="23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 rot="900000">
                  <a:off x="1369080" y="3796920"/>
                  <a:ext cx="132840" cy="17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816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8" name=""/>
            <p:cNvSpPr txBox="1"/>
            <p:nvPr/>
          </p:nvSpPr>
          <p:spPr>
            <a:xfrm rot="1800000">
              <a:off x="1528920" y="2963520"/>
              <a:ext cx="408240" cy="59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46920" y="3335400"/>
              <a:ext cx="840240" cy="84204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75000" y="3423240"/>
              <a:ext cx="782280" cy="870480"/>
            </a:xfrm>
            <a:prstGeom prst="ellipse">
              <a:avLst/>
            </a:prstGeom>
            <a:gradFill rotWithShape="0">
              <a:gsLst>
                <a:gs pos="0">
                  <a:srgbClr val="feddb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8900000">
              <a:off x="1081440" y="3450600"/>
              <a:ext cx="57600" cy="14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672840" y="3316680"/>
              <a:ext cx="792360" cy="344880"/>
              <a:chOff x="672840" y="3316680"/>
              <a:chExt cx="792360" cy="344880"/>
            </a:xfrm>
          </p:grpSpPr>
          <p:sp>
            <p:nvSpPr>
              <p:cNvPr id="1353" name=""/>
              <p:cNvSpPr/>
              <p:nvPr/>
            </p:nvSpPr>
            <p:spPr>
              <a:xfrm rot="19800000">
                <a:off x="674640" y="3422880"/>
                <a:ext cx="461520" cy="13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1800000">
                <a:off x="1001160" y="3423240"/>
                <a:ext cx="461880" cy="13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739440" y="3641040"/>
              <a:ext cx="655200" cy="63360"/>
              <a:chOff x="739440" y="3641040"/>
              <a:chExt cx="655200" cy="63360"/>
            </a:xfrm>
          </p:grpSpPr>
          <p:sp>
            <p:nvSpPr>
              <p:cNvPr id="1356" name=""/>
              <p:cNvSpPr/>
              <p:nvPr/>
            </p:nvSpPr>
            <p:spPr>
              <a:xfrm flipH="1" rot="18900000">
                <a:off x="758520" y="3640320"/>
                <a:ext cx="24840" cy="64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2700000">
                <a:off x="1350360" y="3640320"/>
                <a:ext cx="25200" cy="64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8" name=""/>
            <p:cNvSpPr/>
            <p:nvPr/>
          </p:nvSpPr>
          <p:spPr>
            <a:xfrm>
              <a:off x="732600" y="3632040"/>
              <a:ext cx="313560" cy="25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081440" y="3632040"/>
              <a:ext cx="313200" cy="25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2600" y="3648600"/>
              <a:ext cx="313560" cy="25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81440" y="3648600"/>
              <a:ext cx="313200" cy="25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21160" y="3638880"/>
              <a:ext cx="143640" cy="14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169280" y="3638880"/>
              <a:ext cx="144000" cy="14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937080" y="4015440"/>
              <a:ext cx="262440" cy="1965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253960" y="3117600"/>
            <a:ext cx="1645920" cy="1211040"/>
            <a:chOff x="2253960" y="3117600"/>
            <a:chExt cx="1645920" cy="1211040"/>
          </a:xfrm>
        </p:grpSpPr>
        <p:grpSp>
          <p:nvGrpSpPr>
            <p:cNvPr id="1366" name=""/>
            <p:cNvGrpSpPr/>
            <p:nvPr/>
          </p:nvGrpSpPr>
          <p:grpSpPr>
            <a:xfrm>
              <a:off x="2359800" y="3369960"/>
              <a:ext cx="895680" cy="895320"/>
              <a:chOff x="2359800" y="3369960"/>
              <a:chExt cx="895680" cy="895320"/>
            </a:xfrm>
          </p:grpSpPr>
          <p:sp>
            <p:nvSpPr>
              <p:cNvPr id="1367" name=""/>
              <p:cNvSpPr/>
              <p:nvPr/>
            </p:nvSpPr>
            <p:spPr>
              <a:xfrm>
                <a:off x="2359800" y="3369960"/>
                <a:ext cx="769320" cy="895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486880" y="3369960"/>
                <a:ext cx="768600" cy="895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2333520" y="3883680"/>
              <a:ext cx="947880" cy="258480"/>
              <a:chOff x="2333520" y="3883680"/>
              <a:chExt cx="947880" cy="25848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2333520" y="3883680"/>
                <a:ext cx="211680" cy="258480"/>
                <a:chOff x="2333520" y="3883680"/>
                <a:chExt cx="211680" cy="258480"/>
              </a:xfrm>
            </p:grpSpPr>
            <p:sp>
              <p:nvSpPr>
                <p:cNvPr id="1371" name=""/>
                <p:cNvSpPr/>
                <p:nvPr/>
              </p:nvSpPr>
              <p:spPr>
                <a:xfrm rot="20700000">
                  <a:off x="2359800" y="3900240"/>
                  <a:ext cx="158760" cy="22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rot="20700000">
                  <a:off x="2385000" y="3924360"/>
                  <a:ext cx="128880" cy="16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816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3069720" y="3883680"/>
                <a:ext cx="211680" cy="258480"/>
                <a:chOff x="3069720" y="3883680"/>
                <a:chExt cx="211680" cy="258480"/>
              </a:xfrm>
            </p:grpSpPr>
            <p:sp>
              <p:nvSpPr>
                <p:cNvPr id="1374" name=""/>
                <p:cNvSpPr/>
                <p:nvPr/>
              </p:nvSpPr>
              <p:spPr>
                <a:xfrm flipH="1" rot="900000">
                  <a:off x="3096000" y="3900240"/>
                  <a:ext cx="158760" cy="22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 rot="900000">
                  <a:off x="3100320" y="3924360"/>
                  <a:ext cx="128880" cy="16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816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6" name=""/>
            <p:cNvSpPr txBox="1"/>
            <p:nvPr/>
          </p:nvSpPr>
          <p:spPr>
            <a:xfrm rot="1800000">
              <a:off x="3385080" y="3178080"/>
              <a:ext cx="397080" cy="57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398320" y="3476160"/>
              <a:ext cx="817200" cy="818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25680" y="3561840"/>
              <a:ext cx="760680" cy="766800"/>
            </a:xfrm>
            <a:prstGeom prst="ellipse">
              <a:avLst/>
            </a:prstGeom>
            <a:gradFill rotWithShape="0">
              <a:gsLst>
                <a:gs pos="0">
                  <a:srgbClr val="feddb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18900000">
              <a:off x="2820960" y="3588840"/>
              <a:ext cx="5616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0" name=""/>
            <p:cNvGrpSpPr/>
            <p:nvPr/>
          </p:nvGrpSpPr>
          <p:grpSpPr>
            <a:xfrm>
              <a:off x="2423520" y="3458160"/>
              <a:ext cx="771480" cy="335520"/>
              <a:chOff x="2423520" y="3458160"/>
              <a:chExt cx="771480" cy="335520"/>
            </a:xfrm>
          </p:grpSpPr>
          <p:sp>
            <p:nvSpPr>
              <p:cNvPr id="1381" name=""/>
              <p:cNvSpPr/>
              <p:nvPr/>
            </p:nvSpPr>
            <p:spPr>
              <a:xfrm rot="19800000">
                <a:off x="2425320" y="3561480"/>
                <a:ext cx="448920" cy="128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1800000">
                <a:off x="2743560" y="3561840"/>
                <a:ext cx="449280" cy="128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2489400" y="3773160"/>
              <a:ext cx="636840" cy="61920"/>
              <a:chOff x="2489400" y="3773160"/>
              <a:chExt cx="636840" cy="61920"/>
            </a:xfrm>
          </p:grpSpPr>
          <p:sp>
            <p:nvSpPr>
              <p:cNvPr id="1384" name=""/>
              <p:cNvSpPr/>
              <p:nvPr/>
            </p:nvSpPr>
            <p:spPr>
              <a:xfrm flipH="1" rot="18900000">
                <a:off x="2507760" y="3772440"/>
                <a:ext cx="24480" cy="633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2700000">
                <a:off x="3083040" y="3772440"/>
                <a:ext cx="24480" cy="6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2481840" y="3764880"/>
              <a:ext cx="304920" cy="243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20960" y="3764880"/>
              <a:ext cx="304560" cy="243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481840" y="3780720"/>
              <a:ext cx="304920" cy="24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20960" y="3780720"/>
              <a:ext cx="304560" cy="24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567880" y="3771360"/>
              <a:ext cx="139680" cy="140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906280" y="3771360"/>
              <a:ext cx="140040" cy="140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80560" y="4073760"/>
              <a:ext cx="255240" cy="19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2700000">
              <a:off x="2329560" y="3337200"/>
              <a:ext cx="255240" cy="32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18000000">
              <a:off x="3033720" y="3336840"/>
              <a:ext cx="255240" cy="320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rot="18900000">
              <a:off x="3064680" y="3432960"/>
              <a:ext cx="60840" cy="23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 rot="2700000">
              <a:off x="2487960" y="3432960"/>
              <a:ext cx="61200" cy="23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4114800" y="3002040"/>
            <a:ext cx="1626480" cy="1282680"/>
            <a:chOff x="4114800" y="3002040"/>
            <a:chExt cx="1626480" cy="1282680"/>
          </a:xfrm>
        </p:grpSpPr>
        <p:grpSp>
          <p:nvGrpSpPr>
            <p:cNvPr id="1398" name=""/>
            <p:cNvGrpSpPr/>
            <p:nvPr/>
          </p:nvGrpSpPr>
          <p:grpSpPr>
            <a:xfrm>
              <a:off x="4114800" y="3573360"/>
              <a:ext cx="1135800" cy="711360"/>
              <a:chOff x="4114800" y="3573360"/>
              <a:chExt cx="1135800" cy="711360"/>
            </a:xfrm>
          </p:grpSpPr>
          <p:sp>
            <p:nvSpPr>
              <p:cNvPr id="1399" name=""/>
              <p:cNvSpPr/>
              <p:nvPr/>
            </p:nvSpPr>
            <p:spPr>
              <a:xfrm flipH="1" rot="900000">
                <a:off x="4744440" y="3618720"/>
                <a:ext cx="432720" cy="620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20700000">
                <a:off x="4187520" y="3618720"/>
                <a:ext cx="432720" cy="620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4249080" y="3246480"/>
              <a:ext cx="867600" cy="929160"/>
              <a:chOff x="4249080" y="3246480"/>
              <a:chExt cx="867600" cy="929160"/>
            </a:xfrm>
          </p:grpSpPr>
          <p:sp>
            <p:nvSpPr>
              <p:cNvPr id="1402" name=""/>
              <p:cNvSpPr/>
              <p:nvPr/>
            </p:nvSpPr>
            <p:spPr>
              <a:xfrm>
                <a:off x="4249080" y="3246480"/>
                <a:ext cx="744840" cy="929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372200" y="3246480"/>
                <a:ext cx="744480" cy="929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4" name=""/>
            <p:cNvGrpSpPr/>
            <p:nvPr/>
          </p:nvGrpSpPr>
          <p:grpSpPr>
            <a:xfrm>
              <a:off x="4223520" y="3744360"/>
              <a:ext cx="918000" cy="250920"/>
              <a:chOff x="4223520" y="3744360"/>
              <a:chExt cx="918000" cy="250920"/>
            </a:xfrm>
          </p:grpSpPr>
          <p:grpSp>
            <p:nvGrpSpPr>
              <p:cNvPr id="1405" name=""/>
              <p:cNvGrpSpPr/>
              <p:nvPr/>
            </p:nvGrpSpPr>
            <p:grpSpPr>
              <a:xfrm>
                <a:off x="4223520" y="3744360"/>
                <a:ext cx="204840" cy="250560"/>
                <a:chOff x="4223520" y="3744360"/>
                <a:chExt cx="204840" cy="250560"/>
              </a:xfrm>
            </p:grpSpPr>
            <p:sp>
              <p:nvSpPr>
                <p:cNvPr id="1406" name=""/>
                <p:cNvSpPr/>
                <p:nvPr/>
              </p:nvSpPr>
              <p:spPr>
                <a:xfrm rot="20700000">
                  <a:off x="4249080" y="3760560"/>
                  <a:ext cx="153720" cy="21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rot="20700000">
                  <a:off x="4273560" y="3784680"/>
                  <a:ext cx="124920" cy="16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816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4936320" y="3744360"/>
                <a:ext cx="205200" cy="250920"/>
                <a:chOff x="4936320" y="3744360"/>
                <a:chExt cx="205200" cy="250920"/>
              </a:xfrm>
            </p:grpSpPr>
            <p:sp>
              <p:nvSpPr>
                <p:cNvPr id="1409" name=""/>
                <p:cNvSpPr/>
                <p:nvPr/>
              </p:nvSpPr>
              <p:spPr>
                <a:xfrm flipH="1" rot="900000">
                  <a:off x="4961880" y="3760560"/>
                  <a:ext cx="153720" cy="21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flipH="1" rot="900000">
                  <a:off x="4965840" y="3784680"/>
                  <a:ext cx="124920" cy="16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816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1" name=""/>
            <p:cNvSpPr txBox="1"/>
            <p:nvPr/>
          </p:nvSpPr>
          <p:spPr>
            <a:xfrm rot="1800000">
              <a:off x="5241960" y="3060720"/>
              <a:ext cx="384840" cy="55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286520" y="3349800"/>
              <a:ext cx="791640" cy="793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12800" y="3371760"/>
              <a:ext cx="736920" cy="867960"/>
            </a:xfrm>
            <a:prstGeom prst="ellipse">
              <a:avLst/>
            </a:prstGeom>
            <a:gradFill rotWithShape="0">
              <a:gsLst>
                <a:gs pos="0">
                  <a:srgbClr val="feddb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rot="18900000">
              <a:off x="4745520" y="3432240"/>
              <a:ext cx="54360" cy="1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49960" y="3557160"/>
              <a:ext cx="135720" cy="185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778640" y="3557160"/>
              <a:ext cx="135360" cy="185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559760" y="3929040"/>
              <a:ext cx="246960" cy="1857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620600" y="3308040"/>
              <a:ext cx="124920" cy="24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rot="900000">
              <a:off x="4559760" y="3307680"/>
              <a:ext cx="124200" cy="24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1800000">
              <a:off x="4498200" y="3307680"/>
              <a:ext cx="124920" cy="24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6052680" y="3021840"/>
            <a:ext cx="1536480" cy="1252800"/>
            <a:chOff x="6052680" y="3021840"/>
            <a:chExt cx="1536480" cy="1252800"/>
          </a:xfrm>
        </p:grpSpPr>
        <p:grpSp>
          <p:nvGrpSpPr>
            <p:cNvPr id="1422" name=""/>
            <p:cNvGrpSpPr/>
            <p:nvPr/>
          </p:nvGrpSpPr>
          <p:grpSpPr>
            <a:xfrm>
              <a:off x="6078600" y="3269520"/>
              <a:ext cx="878040" cy="940320"/>
              <a:chOff x="6078600" y="3269520"/>
              <a:chExt cx="878040" cy="940320"/>
            </a:xfrm>
          </p:grpSpPr>
          <p:sp>
            <p:nvSpPr>
              <p:cNvPr id="1423" name=""/>
              <p:cNvSpPr/>
              <p:nvPr/>
            </p:nvSpPr>
            <p:spPr>
              <a:xfrm>
                <a:off x="6078600" y="3269520"/>
                <a:ext cx="754200" cy="9403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203160" y="3269520"/>
                <a:ext cx="753480" cy="9403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6052680" y="3773160"/>
              <a:ext cx="929880" cy="253800"/>
              <a:chOff x="6052680" y="3773160"/>
              <a:chExt cx="929880" cy="253800"/>
            </a:xfrm>
          </p:grpSpPr>
          <p:grpSp>
            <p:nvGrpSpPr>
              <p:cNvPr id="1426" name=""/>
              <p:cNvGrpSpPr/>
              <p:nvPr/>
            </p:nvGrpSpPr>
            <p:grpSpPr>
              <a:xfrm>
                <a:off x="6052680" y="3773160"/>
                <a:ext cx="207720" cy="253800"/>
                <a:chOff x="6052680" y="3773160"/>
                <a:chExt cx="207720" cy="253800"/>
              </a:xfrm>
            </p:grpSpPr>
            <p:sp>
              <p:nvSpPr>
                <p:cNvPr id="1427" name=""/>
                <p:cNvSpPr/>
                <p:nvPr/>
              </p:nvSpPr>
              <p:spPr>
                <a:xfrm rot="20700000">
                  <a:off x="6078600" y="3789360"/>
                  <a:ext cx="155880" cy="221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rot="20700000">
                  <a:off x="6103440" y="3813480"/>
                  <a:ext cx="1267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816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6774840" y="3773160"/>
                <a:ext cx="207720" cy="253800"/>
                <a:chOff x="6774840" y="3773160"/>
                <a:chExt cx="207720" cy="253800"/>
              </a:xfrm>
            </p:grpSpPr>
            <p:sp>
              <p:nvSpPr>
                <p:cNvPr id="1430" name=""/>
                <p:cNvSpPr/>
                <p:nvPr/>
              </p:nvSpPr>
              <p:spPr>
                <a:xfrm flipH="1" rot="900000">
                  <a:off x="6800400" y="3789360"/>
                  <a:ext cx="155880" cy="221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db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H="1" rot="900000">
                  <a:off x="6804360" y="3813480"/>
                  <a:ext cx="1267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816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2" name=""/>
            <p:cNvSpPr txBox="1"/>
            <p:nvPr/>
          </p:nvSpPr>
          <p:spPr>
            <a:xfrm rot="1800000">
              <a:off x="7084080" y="3081240"/>
              <a:ext cx="389520" cy="56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116040" y="3373200"/>
              <a:ext cx="801360" cy="80388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142320" y="3395520"/>
              <a:ext cx="746640" cy="879120"/>
            </a:xfrm>
            <a:prstGeom prst="ellipse">
              <a:avLst/>
            </a:prstGeom>
            <a:gradFill rotWithShape="0">
              <a:gsLst>
                <a:gs pos="0">
                  <a:srgbClr val="feddb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rot="18900000">
              <a:off x="6580800" y="3457440"/>
              <a:ext cx="55080" cy="13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5" y="1537"/>
                    <a:pt x="8570" y="5080"/>
                    <a:pt x="8570" y="10800"/>
                  </a:cubicBezTo>
                  <a:cubicBezTo>
                    <a:pt x="8570" y="16520"/>
                    <a:pt x="15085" y="2006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266160" y="3772080"/>
              <a:ext cx="126360" cy="126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43080" y="3772080"/>
              <a:ext cx="126000" cy="126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454440" y="4086360"/>
              <a:ext cx="12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7967520" y="3069360"/>
            <a:ext cx="1438920" cy="1105920"/>
            <a:chOff x="7967520" y="3069360"/>
            <a:chExt cx="1438920" cy="1105920"/>
          </a:xfrm>
        </p:grpSpPr>
        <p:sp>
          <p:nvSpPr>
            <p:cNvPr id="1440" name=""/>
            <p:cNvSpPr txBox="1"/>
            <p:nvPr/>
          </p:nvSpPr>
          <p:spPr>
            <a:xfrm rot="1800000">
              <a:off x="9021240" y="3114360"/>
              <a:ext cx="297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967520" y="3162240"/>
              <a:ext cx="1016280" cy="1013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rot="5400000">
              <a:off x="8520480" y="3731400"/>
              <a:ext cx="174600" cy="2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 txBox="1"/>
            <p:nvPr/>
          </p:nvSpPr>
          <p:spPr>
            <a:xfrm>
              <a:off x="8283600" y="3338640"/>
              <a:ext cx="20304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ＭＳ Ｐゴシック"/>
                <a:ea typeface="ＭＳ Ｐゴシック"/>
              </a:endParaRPr>
            </a:p>
          </p:txBody>
        </p:sp>
        <p:sp>
          <p:nvSpPr>
            <p:cNvPr id="1444" name=""/>
            <p:cNvSpPr txBox="1"/>
            <p:nvPr/>
          </p:nvSpPr>
          <p:spPr>
            <a:xfrm>
              <a:off x="8643960" y="3338640"/>
              <a:ext cx="20304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0000"/>
                  </a:solidFill>
                  <a:latin typeface="ＭＳ Ｐゴシック"/>
                </a:rPr>
                <a:t>？</a:t>
              </a:r>
              <a:endPara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ＭＳ Ｐゴシック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2-11-22T00:28:05Z</dcterms:modified>
  <cp:revision>1</cp:revision>
  <dc:subject>PPT202_クエスチョンマーク</dc:subject>
  <dc:title>PPT202_クエスチョンマーク</dc:title>
</cp:coreProperties>
</file>